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MX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6FB13-0633-4512-9CE1-A2B5AAAB35ED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54A08-3E7E-414C-B137-2118F0460FEB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0104-35F0-4B5C-BFA9-8DD11343E57A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1232B-E7E5-4760-9CE4-FA66FF0DE368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21CD-3ED4-491D-8F8B-B98B562028F3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6215D-B98A-4B7C-9119-1BB08417BB6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9CEFD-A05C-4C1E-B97E-6EE2EE4EDE16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029E0-1D9B-47BE-8402-1723533227ED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4C1BA-B90D-4242-A3F7-1277F9044739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4F33-C1A1-468A-AA60-EBD6F34B77FC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8F7C6-6624-4D91-A9EA-2E9B9426ED84}" type="slidenum">
              <a:rPr b="0" lang="es-MX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DD5-7336-4CFF-A409-471E5F84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E90-BAC6-43CD-901C-4AE84D4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ECB74-E230-46C2-A0FE-65949CC4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307C-F140-4D82-933D-3984F6F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31247-CF97-4268-BEAA-59D57D8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1FEA5-4CA4-411B-B273-7718E63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6D09-8F85-4A1C-97FC-AF5C0EA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C285-2FEE-4BFA-AD73-9A3EE8C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40FE-B2CF-4AB3-81E5-866837C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51D22-DAF7-43F5-B700-F084BBB2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B8A3F-1944-43D2-96F7-7B0D0D46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22368-4D30-4C59-B7AE-E0C60B9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2F2-9174-4200-9915-17AFFB2C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1245A-AAD5-4F17-B55C-C5E9EAFF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7F06C-42A7-47CF-890D-E531326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30107-4BA4-42FE-988D-7522428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E156B-CCFB-489F-B199-52117FE2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74A61-901F-45C9-BD1C-345FFC66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F2B79-954D-4223-812E-48A3F1CE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AB7D8-CF5D-482A-A1FC-0C3DFEB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C6AD-EF58-474D-B938-38DC43D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EEADA-C759-4162-A899-87D9747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B0C23-022E-42B4-AC86-3DCF35A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509-8654-4243-8E5F-0A94723F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8C6A5-2C3B-4C3F-9EF7-CEFBB308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43ED-B783-4439-8DF0-83701083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E0156-EFFD-4C6D-BA1E-5D098E6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3142D-1A6D-45D8-866B-E9CD2416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A430-116B-4D2A-BD99-3D2900F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0B92-DB7E-4E1E-AB62-3B47356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FF6B8-E06D-4F3B-A53D-0B9D398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2004C-BD30-48FC-BBB4-4D1B1642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B710B-AA7E-494B-A99F-6C76BC9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C3893-2A1C-46EF-85FC-B45F54B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C0C8-A7F4-4829-A935-1ABB7A15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4B29B-B120-4B70-91BC-3A63018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B354-D6B4-4BBA-AC12-4BE21E9E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32D5-1E58-424C-AC4F-6759FF37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FE446-97EE-4940-BC43-943DA103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360B-F28E-46E7-B9EF-C35198F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6DC9F-10E7-4EBB-B924-FE79E709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13944-029D-46AE-9E54-30EE9CB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8751-8BD1-46C7-8899-B511CE9F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DC7EB-164F-4A47-B65D-CB317848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0289-5DF4-42BE-B3C9-9F1CD3E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BD2-D350-42FE-865E-5B3B7348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60C1A-B0F1-4348-8E00-ABD1520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BB652-3A14-43D3-8B74-5DF66C1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46F30-F3FC-4F2B-9542-9CF086D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2021B-056D-4130-9F9F-A1BDB07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41E91-87BD-44FC-9D6A-7F8DD2C4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A64-82FC-4E2C-98EF-2AE0AE3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514D-8448-47CC-9DFC-F96E3377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738A-CDC4-4EC6-A033-A47D134F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6E4C-FE88-4E8E-9962-E7FAD0DF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95C-59AF-4B47-ABA3-2916220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0B9-C73F-4055-9575-A9FC08BD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A0C-3A2E-4280-B966-BCD2C45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2ED-5723-4033-96C0-A8FDADD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8345-7EC6-4615-BC79-F10B3B3E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546-B724-4A98-BF8C-CE801050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8BC-82D3-4413-A8AB-EA9901E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F82C-BB06-49F6-8D84-C1ACE48B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AD3C-9B63-4C4E-ADD5-43F7D87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36AF-FA33-4834-AD30-50580B67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E4C6-5C46-44F1-83D0-F22EDD82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B72A-2B21-4DEA-8A9A-0E378FFE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DD4-6E7F-49CA-A800-99F3640D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3005-7A64-49B2-92A2-97D7F77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E505-CBCE-466A-A25F-205F835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6F0A-C0B9-4753-8FE6-4F3A581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C2C3-81BF-4F5D-A7F5-C197500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4C14-C009-4F61-9C05-C5319173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CBD7-F58E-4475-8761-B14C2939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111F-B251-40B1-9A6B-9F56DDBE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7249-F131-45F3-BBB3-1ED838A2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7512-0A1B-4025-B165-2C6E10D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7190-EDB2-4D0A-A93D-C341F2AC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7FD-8C11-4D88-AE94-3CF91A3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76B6-C85A-4F37-9CC5-77EAC2F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E1E8-FEF4-4E07-9EF3-130E897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DA70-A361-4BFB-89E6-EC7D381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1205-1EC8-4E9F-A869-515DB9A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CFC8-D11B-456C-9E96-8901FD3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3E21-367A-41AB-A48B-DB389CE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C0CA-76D6-4B88-A631-F9FFE4C4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3C6F-07EA-4206-9279-001368CA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AA3C-A965-41BF-89E2-8E8D0FAA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AAF9-8199-4C62-9762-A9911B65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ADB-139C-43C7-A1BD-7D5054C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47BB-70C5-494E-A631-BAA3353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4A0B-C330-48FA-A6D4-00495AD9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AD7C-6C54-49D0-9BA8-8B6C4451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17B6-E2DD-4F2B-811C-F6416A2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BDA9-C982-4B33-99F3-997C89E4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9F0B-F2E7-421F-88FA-7F61D73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26F1-0300-4784-AB50-46AD1D8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D98A-7E2D-40BA-BE98-6231C74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570D-D6D1-4973-AE26-579D95E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50E6-A6BC-4A5A-B577-35D10FEF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4A2-DEE0-4696-B499-E148E84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4DC8-1549-48F3-81CA-C27C8EC1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5E42-84B5-4858-AE70-1C3263C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FF58-CCD6-4A55-88C2-AD854CB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934F-2970-4198-8B55-50BD979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B765-222C-407C-BC43-8BE5253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E6CC-8BD6-4E3E-A064-072BA6DE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CAF2-AFCE-4FB1-BFEE-3DEB2D8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462E-4792-4BB0-9C2B-A04F8E0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C367-302C-4CC1-B622-69FCE2F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3E93-39EC-4B19-AEB5-F467774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B55-6752-4633-9719-B04F287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E70F-F75D-4FE1-894D-1B8FD15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91A9-0656-4EB2-8E83-2B9EE87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BB88-618C-4BEB-8828-DDD445AA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C6A2-C03C-4A4D-8E8B-8F2DEBB0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9A92-225F-43F1-AB23-82BAFA8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AA23-74CE-466F-A8D1-C188626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2E80-3277-4F6D-BA69-1E83A47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C1B5C-5A21-496C-A588-2DA44FD3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27AB-3EFE-46AF-B5EF-723B1BE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F99B-85AC-4F2F-BAD5-F5E4CFA3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F71-D216-477C-B2E7-6BF1603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0339-E7A4-4450-9DE7-4CD5DDD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0777-A652-407F-96B4-EEC04C2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A888B-CAA7-49A1-9869-D03F36A1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45A2-2293-495C-8CEB-94D12056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AB2F-124E-45E5-95EE-24603BF4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6607-CAF9-4596-85AA-E1537C81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8F29F-D2AB-418E-AA2C-56802226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CE4AA-2E5D-4874-9DC3-31F8A987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C16E-7890-4A74-93B0-64CD55C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020F-7BE9-4D67-A179-65829A94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0F5-4256-4CD8-9087-F4B73A2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9FAC-9867-4F25-9BC4-DDD20623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244A4-3AA2-47E0-B2FF-B1725DE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D1A6-45B9-4D10-B246-42227EC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5729-F13F-4916-81CB-2027E25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532A-63A8-40DD-A621-2B399BB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8DB1F-935C-430C-B5E3-2E63E1E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4DF1-30CA-4D21-9B6F-A05FCCC6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433C1-AC0D-4696-82DE-C90DE1F7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3016E-80E6-4189-83F1-656AB695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C30C0-11E1-4033-8EE3-2CCD1DF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0A81-4BB5-4E05-A33A-ACA77714ED5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0357-1F8A-4FF9-B128-BBA8E0DFDFA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6A10-EE01-40BC-AAFA-60A9E74C6F8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36B-9570-4922-98D2-DBBDD8C1A7F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40D0-1E72-4609-A645-43E614B51A78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592F-3635-4B98-B4B8-951CED9DFE3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9D6-1EB8-4EAC-B8D4-F2D682C2E52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7BB7-D9B4-4D01-93C6-97A4447B76D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55A-CB68-4758-8770-C740415B5D1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AB6-1BC9-4300-BEFD-8919398B102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5CC-5786-49F7-A471-42AFE83ABB9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904-AC9F-4381-9600-36AB70D0025B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4 de Junio de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Inspección Departamental de Educación Inicial y Primaria de Tacuaremb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anklin Gothic Book"/>
              </a:rPr>
              <a:t>Junta de Directore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96464"/>
                </a:solidFill>
                <a:latin typeface="Franklin Gothic Book"/>
              </a:rPr>
              <a:t>Aspectos de Numeración Racional</a:t>
            </a:r>
            <a:endParaRPr b="0" lang="en-US" sz="4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Perpetua"/>
              </a:rPr>
              <a:t>Vinculación con el nuevo progra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6 Rectángulo"/>
          <p:cNvSpPr/>
          <p:nvPr/>
        </p:nvSpPr>
        <p:spPr>
          <a:xfrm>
            <a:off x="2643120" y="857160"/>
            <a:ext cx="321480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2819520" y="10666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CEPTO DE NÚMERO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Flecha abajo"/>
          <p:cNvSpPr/>
          <p:nvPr/>
        </p:nvSpPr>
        <p:spPr>
          <a:xfrm flipH="1">
            <a:off x="2571840" y="1857240"/>
            <a:ext cx="28584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CuadroTexto"/>
          <p:cNvSpPr/>
          <p:nvPr/>
        </p:nvSpPr>
        <p:spPr>
          <a:xfrm>
            <a:off x="1371600" y="3581280"/>
            <a:ext cx="214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Flecha abajo"/>
          <p:cNvSpPr/>
          <p:nvPr/>
        </p:nvSpPr>
        <p:spPr>
          <a:xfrm>
            <a:off x="4929120" y="1785960"/>
            <a:ext cx="214560" cy="1357200"/>
          </a:xfrm>
          <a:prstGeom prst="downArrow">
            <a:avLst>
              <a:gd name="adj1" fmla="val 50000"/>
              <a:gd name="adj2" fmla="val 4993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7 CuadroTexto"/>
          <p:cNvSpPr/>
          <p:nvPr/>
        </p:nvSpPr>
        <p:spPr>
          <a:xfrm>
            <a:off x="450072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8 Abrir llave"/>
          <p:cNvSpPr/>
          <p:nvPr/>
        </p:nvSpPr>
        <p:spPr>
          <a:xfrm>
            <a:off x="6072120" y="2928960"/>
            <a:ext cx="142920" cy="1928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928880"/>
              <a:gd name="textAreaBottom" fmla="*/ 19252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9 CuadroTexto"/>
          <p:cNvSpPr/>
          <p:nvPr/>
        </p:nvSpPr>
        <p:spPr>
          <a:xfrm>
            <a:off x="6215040" y="2643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PRESENT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10 CuadroTexto"/>
          <p:cNvSpPr/>
          <p:nvPr/>
        </p:nvSpPr>
        <p:spPr>
          <a:xfrm>
            <a:off x="6286680" y="2928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11 CuadroTexto"/>
          <p:cNvSpPr/>
          <p:nvPr/>
        </p:nvSpPr>
        <p:spPr>
          <a:xfrm>
            <a:off x="6286680" y="32148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ALOR POS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2 CuadroTexto"/>
          <p:cNvSpPr/>
          <p:nvPr/>
        </p:nvSpPr>
        <p:spPr>
          <a:xfrm>
            <a:off x="6357960" y="3857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GULAR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3 CuadroTexto"/>
          <p:cNvSpPr/>
          <p:nvPr/>
        </p:nvSpPr>
        <p:spPr>
          <a:xfrm>
            <a:off x="6286680" y="435780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POSICIÓN Y DESCOM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36576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3 Rectángulo"/>
          <p:cNvSpPr/>
          <p:nvPr/>
        </p:nvSpPr>
        <p:spPr>
          <a:xfrm>
            <a:off x="1500120" y="1428840"/>
            <a:ext cx="5500800" cy="357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11 Rectángulo"/>
          <p:cNvSpPr/>
          <p:nvPr/>
        </p:nvSpPr>
        <p:spPr>
          <a:xfrm>
            <a:off x="2071800" y="1928880"/>
            <a:ext cx="37861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0 Rectángulo"/>
          <p:cNvSpPr/>
          <p:nvPr/>
        </p:nvSpPr>
        <p:spPr>
          <a:xfrm>
            <a:off x="2643120" y="2214720"/>
            <a:ext cx="2786040" cy="14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9 Rectángulo"/>
          <p:cNvSpPr/>
          <p:nvPr/>
        </p:nvSpPr>
        <p:spPr>
          <a:xfrm>
            <a:off x="3143160" y="2643120"/>
            <a:ext cx="20718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2 Rectángulo"/>
          <p:cNvSpPr/>
          <p:nvPr/>
        </p:nvSpPr>
        <p:spPr>
          <a:xfrm>
            <a:off x="5857920" y="1928880"/>
            <a:ext cx="571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Perpetu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4 CuadroTexto"/>
          <p:cNvSpPr/>
          <p:nvPr/>
        </p:nvSpPr>
        <p:spPr>
          <a:xfrm>
            <a:off x="1071720" y="71424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POS NUMÉ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85840" y="214200"/>
          <a:ext cx="8103960" cy="5829480"/>
        </p:xfrm>
        <a:graphic>
          <a:graphicData uri="http://schemas.openxmlformats.org/drawingml/2006/table">
            <a:tbl>
              <a:tblPr/>
              <a:tblGrid>
                <a:gridCol w="2076480"/>
                <a:gridCol w="602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er.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presentación gráfica de frac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s fracciones menores que la un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en medios y cuar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642960" y="573120"/>
          <a:ext cx="7929720" cy="6254640"/>
        </p:xfrm>
        <a:graphic>
          <a:graphicData uri="http://schemas.openxmlformats.org/drawingml/2006/table">
            <a:tbl>
              <a:tblPr/>
              <a:tblGrid>
                <a:gridCol w="1981080"/>
                <a:gridCol w="5948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como punto de un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comparación y ordenación de fracciones : ½-1/4 – 1/8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relación de equivalencia de fracciones conocidas. F &gt;1 y   F 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unidad con medios,cuartos,tercios y quin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71680" y="476280"/>
          <a:ext cx="8103960" cy="6327720"/>
        </p:xfrm>
        <a:graphic>
          <a:graphicData uri="http://schemas.openxmlformats.org/drawingml/2006/table">
            <a:tbl>
              <a:tblPr/>
              <a:tblGrid>
                <a:gridCol w="202392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684360" y="836640"/>
          <a:ext cx="7920000" cy="541188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º año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20:30:06Z</dcterms:created>
  <dc:creator>cliente</dc:creator>
  <dc:description/>
  <dc:language>en-US</dc:language>
  <cp:lastModifiedBy>Paty</cp:lastModifiedBy>
  <dcterms:modified xsi:type="dcterms:W3CDTF">2010-06-06T00:10:25Z</dcterms:modified>
  <cp:revision>4</cp:revision>
  <dc:subject/>
  <dc:title>Aspectos de Numeración Racional</dc:title>
</cp:coreProperties>
</file>