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71E18-ABB7-44A5-898D-ADB07F49532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8C7D2-0AE0-4ACB-8510-CAF46B7D73D1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F2C41-F811-42D9-A40D-4FD9F81F81EC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E5FE5-E264-4EB1-8409-0DC7E089C59B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F004E-BEC7-4C03-A14B-2BA89D6D169D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7C36-95D9-4ABA-B675-812C51D3871B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51CC3-81C3-4CDD-9097-52ED9F6525F1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5B4D8-FECD-45F1-8216-651CF3A4A6CE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49515-A549-4046-88A3-B2904362BAB1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F4150-7A49-4E66-9CF2-D9579CB9955E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08846-2134-499C-9B73-E193ED49EB4A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E9F-C2AD-4F33-9E2D-4CF7E2D0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25D-ADFC-49C4-A8F3-2F0621F2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CA80-3137-4E4D-B450-F3ED2DDD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475E5-E976-4B76-A032-8B653A54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CBF3D-434A-4C80-8758-AC0F8E3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5A58C-747D-436D-AAC5-5857BA4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2CF8D-7858-439B-A10B-DD85E193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23416-37C8-47E3-B34A-9D775303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91B46-7449-4D57-9A4D-50B6987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C3A09-C60C-4DA7-90C8-59560B66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AF00-1D3A-471D-AEA1-ECD7E4BC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A1E70-E30E-4B39-8572-34D68CF4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6F5-42BE-4D2A-B108-E31DB6FB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EAF71-406D-4885-97C1-859F350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8B203-6D60-4209-915B-F0E9A0D7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3260A-A0BF-4521-A080-07362B9A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6F053-A0D7-4811-BC33-F1A99C17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438D9-4E36-4334-8D56-07701C70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72CFB-0093-4D85-A4D9-24173EA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A037E-19E8-46CF-8FFF-850F6337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434B1-4B3B-48D2-89CC-F70F365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91C66-A9F3-45AC-93E4-A8681164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189C3-0DCD-4B28-8369-DF8295FE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923-B683-4102-9CAA-6978D780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DFCF0-107C-4E39-A0F4-569EBBB8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FA38A-7944-4BE0-9B3F-5AD1B170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27E55-6FDE-437F-B542-87CC8550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8C86D-60D4-4BD0-A161-B14BDC37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98967-47CC-4A75-9A75-6382848B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F749C-0142-486B-95B6-C45867A7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4EDFF-F870-4FC6-8AA6-7395DD3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7FD3-2349-4054-AA20-3979530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B72A0-2B09-4179-BD9D-76E48CF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2289-44EC-4842-9172-9F19E9F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4A0F-FF6B-4B6B-92A4-3B81D76A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9B27-7A94-48A8-B64D-FB43F193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B4C3D-0A34-4CCF-93C6-7D68CAAE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9EAD5-FA3D-4EFB-9000-F4D1EC76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FC7A3-26A8-4AF9-8659-FF8EFBB8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EB6D9-9496-455B-86F3-FEA374BA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48A97-3670-470B-B745-BBB147E3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D93F5-067C-4AB6-84BB-4CE3551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9561D-8E14-45BA-9977-6DCBBF1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41AAA-5501-4FE1-9B95-727D98E4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75648-303F-4ED1-A62B-563A29B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4FF-59FE-4433-A476-D390D119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8397B-A6F4-40AA-ACDD-196DE67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BA703-5721-435E-85A5-B00A7FF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A6C8F-6543-4997-9AE0-234E573D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46B75-DA2F-4ECE-9D96-2F26C1B3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441EF-7408-4C62-ABED-2C5C10FF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4DD0-9F5B-42A6-93DE-778EF61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F9A0-490C-4E9C-80D2-ECFADE7C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4919-A24B-4F09-954B-72C66783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F037-9E65-41F2-BC8B-A8D1586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B76D-5F6A-4264-B235-0F4A2B3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D8E-B95E-4C66-BB66-BDF1442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C7F3-4C60-47FA-8634-F24A7935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7A1D-9B75-4B04-B00A-D7F206E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19C5-8CEB-4CD6-9858-1B700E14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AE72-C56F-4D71-A60F-D6A882A2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68A2-6F8D-40DB-B9A1-D2A86C81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FF65-A056-4C94-A4B4-43EAAB16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E709-69C7-403E-AAEF-A8D14D1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FE9F-2DE0-48BC-B8B3-3F4BDE74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83A8-7844-49DB-84CD-6B4F7DC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004B-C0A8-4980-B462-AA9445DC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F08-07C7-4456-BEF0-8BECE7A2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1303-214F-49BA-B9F4-A1A9ED55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CA08-3DAC-49B4-939D-F7352AC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F18B-DEE8-4D7B-8954-A4FC1A9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0B46-9AF6-45C4-BDC8-0969A47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18CB2-CE0F-4BD9-A584-D11CB136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878E-B133-4776-9CBE-D4C5ED89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F7C8-0C11-4001-942A-0431FAD8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3E66-FB70-4E1C-88FD-354E23E5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1B9B-0432-4269-A900-EC67C8F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0BEC-9E47-4352-A2AA-43572FBB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F7D-6584-42FE-BEE4-FC83771D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93E4-2431-47C0-B362-F90626D7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B556-6691-4FC7-8247-8379680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0686-336B-4B41-9A5A-1B3A9766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16D6-7E2C-4BEA-BB9E-C873FC0D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AC2C-1A5D-4CBC-AF30-30A386C0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B198-DC95-4164-82A7-52D5A8B8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26B9-5222-433C-BEC9-2C2EB35A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8A8C-DBE4-43F8-AFF5-273E72A2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31C6-E049-4D34-8136-529EAF21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BBE21-918B-421F-B40E-F2867472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4A3-ECB8-48BE-9C68-96917C7E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34744-6E9D-4202-921D-89678E47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FD00-B38B-42B9-BB37-1A870649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448F9-8B4B-4331-A81E-593201D0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4909-3C24-40AB-96BE-480B6103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CBFE-A473-4587-9E72-E99171B2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2DF28-9EDD-4F9C-A3F1-F4E6C5BC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4269-99BC-43C2-A2CC-6439B72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1F39-2177-4D05-B0D3-7C933F4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72148-4356-4F95-BF48-5FAE8FC7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5654-2CFA-4811-8C56-4C9D2B70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E44-6731-4341-9464-2E5B937D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CFBB-B472-4E16-AE19-C8B9C715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2875-EA9B-499C-85D2-6D389029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8F46-1EE2-4416-929E-113C5085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BB038-8ED6-4DB5-9FD3-27B043E7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9EB7-4A53-4535-9336-76EDF5F1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D7E7-5162-44EF-9FC4-8EA1A71F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9FFF5-27C0-44B4-9182-E4626FC5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A213-918A-4778-99B3-6199A8F8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C422-9B42-4226-8A24-82EB0B32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FAED-46C3-4147-8138-0FA04258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B1B-2BFE-4FC7-A5BF-921ECD4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F9FE-43E9-408A-8534-CFE2E72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9868F-B36C-4358-9978-3FCE9062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6AFE-AA29-4733-8188-A9932464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747E-D4B5-4118-AB89-60941C7F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4D58-A77C-4431-A897-749F6D0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00228-E586-4403-8A3A-588448C7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1A2DB-2F6F-4F34-BE31-993D2A4D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211D6-67DC-488C-AFA7-FF2A2166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65DA-55B6-4F02-BA62-D12E34FB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DB5B4-2484-4E1E-8599-953B8B50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0EB-2C53-42EE-8468-58B42B3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6A12-9884-4785-82C6-052F3E0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124CA-9129-467A-82FC-2AEAAB1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B912-3164-45C7-A5F1-0D656C44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EE66-DFFC-45EC-A868-9E37DE74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DF0D3-D69B-416C-B667-D3425E7E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A47A-8742-4A97-AA9D-5685F644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92461-A1B7-4FF5-8BE5-80923DF1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0136D-7B69-4EF3-92C8-DE2AFA6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F0573-74F1-46D9-AEA0-1159E22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FEDA-EE27-44ED-9AFF-6D7E6D99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7D0-0B7C-4EE6-A645-CBFC654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114C1-B669-4B77-9592-3675E333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EC65E-6D99-40ED-95FA-065C455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3B495-4610-449D-953C-CD77BF3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29BCA-AB7E-48D6-AEDF-CA8ED42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D69CC-DC80-4287-8F0E-08F567C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92A2C-1E4C-40E1-ACB9-22837D0C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5A269-1D2E-4272-8429-4AF3D46E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E7E4B-CF3B-416C-86EE-942115E1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EAB60-FADB-4408-9F87-9FDC1D0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D35FB-E6D6-458A-BDCD-8592FBC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53BA-AD9D-469A-861D-849BBC3C19CC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7385-7441-45A6-9B09-1AF2AF7DE00A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B6C4-A708-447F-A0A7-CC1F47113D37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ACDE-428F-4E24-94DD-126FAB1C4A50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0C0-9A3A-48B2-8D02-FCE8588FA8F2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05AF-E7EF-4AA1-B860-FB45841388B6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B08-71FC-43B0-B49B-3C84F5EA7D4E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7F99-D802-4550-974B-1274CA748EB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6369-2AEB-44C4-8A2B-2A5CC029C857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474-65D2-46A0-8706-399FF2DFFBBD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A702-E7B3-47ED-88C5-D2459CF4E232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9F3B-AA6C-4A8C-B41F-5411FB2DE700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4 de Junio de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Inspección Departamental de Educación Inicial y Primaria de Tacuaremb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anklin Gothic Book"/>
              </a:rPr>
              <a:t>Junta de Directore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96464"/>
                </a:solidFill>
                <a:latin typeface="Franklin Gothic Book"/>
              </a:rPr>
              <a:t>Aspectos de Numeración Racional</a:t>
            </a:r>
            <a:endParaRPr b="0" lang="en-US" sz="4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Perpetua"/>
              </a:rPr>
              <a:t>Vinculación con el nuevo progra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16 Rectángulo"/>
          <p:cNvSpPr/>
          <p:nvPr/>
        </p:nvSpPr>
        <p:spPr>
          <a:xfrm>
            <a:off x="2643120" y="857160"/>
            <a:ext cx="321480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2819520" y="10666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CEPTO DE NÚMERO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Flecha abajo"/>
          <p:cNvSpPr/>
          <p:nvPr/>
        </p:nvSpPr>
        <p:spPr>
          <a:xfrm flipH="1">
            <a:off x="2571840" y="1857240"/>
            <a:ext cx="28584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CuadroTexto"/>
          <p:cNvSpPr/>
          <p:nvPr/>
        </p:nvSpPr>
        <p:spPr>
          <a:xfrm>
            <a:off x="1371600" y="3581280"/>
            <a:ext cx="214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Flecha abajo"/>
          <p:cNvSpPr/>
          <p:nvPr/>
        </p:nvSpPr>
        <p:spPr>
          <a:xfrm>
            <a:off x="4929120" y="1785960"/>
            <a:ext cx="214560" cy="135720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7 CuadroTexto"/>
          <p:cNvSpPr/>
          <p:nvPr/>
        </p:nvSpPr>
        <p:spPr>
          <a:xfrm>
            <a:off x="450072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8 Abrir llave"/>
          <p:cNvSpPr/>
          <p:nvPr/>
        </p:nvSpPr>
        <p:spPr>
          <a:xfrm>
            <a:off x="6072120" y="2928960"/>
            <a:ext cx="142920" cy="1928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928880"/>
              <a:gd name="textAreaBottom" fmla="*/ 19252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9 CuadroTexto"/>
          <p:cNvSpPr/>
          <p:nvPr/>
        </p:nvSpPr>
        <p:spPr>
          <a:xfrm>
            <a:off x="6215040" y="2643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PRESEN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10 CuadroTexto"/>
          <p:cNvSpPr/>
          <p:nvPr/>
        </p:nvSpPr>
        <p:spPr>
          <a:xfrm>
            <a:off x="6286680" y="2928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11 CuadroTexto"/>
          <p:cNvSpPr/>
          <p:nvPr/>
        </p:nvSpPr>
        <p:spPr>
          <a:xfrm>
            <a:off x="6286680" y="32148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ALOR POS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2 CuadroTexto"/>
          <p:cNvSpPr/>
          <p:nvPr/>
        </p:nvSpPr>
        <p:spPr>
          <a:xfrm>
            <a:off x="6357960" y="3857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GULA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3 CuadroTexto"/>
          <p:cNvSpPr/>
          <p:nvPr/>
        </p:nvSpPr>
        <p:spPr>
          <a:xfrm>
            <a:off x="6286680" y="43578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POSICIÓN Y DES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6576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3 Rectángulo"/>
          <p:cNvSpPr/>
          <p:nvPr/>
        </p:nvSpPr>
        <p:spPr>
          <a:xfrm>
            <a:off x="1500120" y="1428840"/>
            <a:ext cx="5500800" cy="357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11 Rectángulo"/>
          <p:cNvSpPr/>
          <p:nvPr/>
        </p:nvSpPr>
        <p:spPr>
          <a:xfrm>
            <a:off x="2071800" y="1928880"/>
            <a:ext cx="37861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0 Rectángulo"/>
          <p:cNvSpPr/>
          <p:nvPr/>
        </p:nvSpPr>
        <p:spPr>
          <a:xfrm>
            <a:off x="2643120" y="2214720"/>
            <a:ext cx="2786040" cy="14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9 Rectángulo"/>
          <p:cNvSpPr/>
          <p:nvPr/>
        </p:nvSpPr>
        <p:spPr>
          <a:xfrm>
            <a:off x="3143160" y="2643120"/>
            <a:ext cx="20718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2 Rectángulo"/>
          <p:cNvSpPr/>
          <p:nvPr/>
        </p:nvSpPr>
        <p:spPr>
          <a:xfrm>
            <a:off x="5857920" y="1928880"/>
            <a:ext cx="571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4 CuadroTexto"/>
          <p:cNvSpPr/>
          <p:nvPr/>
        </p:nvSpPr>
        <p:spPr>
          <a:xfrm>
            <a:off x="1071720" y="71424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85840" y="214200"/>
          <a:ext cx="8103960" cy="5829480"/>
        </p:xfrm>
        <a:graphic>
          <a:graphicData uri="http://schemas.openxmlformats.org/drawingml/2006/table">
            <a:tbl>
              <a:tblPr/>
              <a:tblGrid>
                <a:gridCol w="2076480"/>
                <a:gridCol w="602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er.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presentación gráfica de frac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s fracciones menores que la un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en medios y cuar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642960" y="573120"/>
          <a:ext cx="7929720" cy="6254640"/>
        </p:xfrm>
        <a:graphic>
          <a:graphicData uri="http://schemas.openxmlformats.org/drawingml/2006/table">
            <a:tbl>
              <a:tblPr/>
              <a:tblGrid>
                <a:gridCol w="1981080"/>
                <a:gridCol w="5948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como punto de un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comparación y ordenación de fracciones : ½-1/4 – 1/8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lación de equivalencia de fracciones conocidas. F &gt;1 y   F 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con medios,cuartos,tercios y quin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71680" y="476280"/>
          <a:ext cx="8103960" cy="6327720"/>
        </p:xfrm>
        <a:graphic>
          <a:graphicData uri="http://schemas.openxmlformats.org/drawingml/2006/table">
            <a:tbl>
              <a:tblPr/>
              <a:tblGrid>
                <a:gridCol w="202392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684360" y="836640"/>
          <a:ext cx="7920000" cy="541188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0:30:06Z</dcterms:created>
  <dc:creator>cliente</dc:creator>
  <dc:description/>
  <dc:language>en-US</dc:language>
  <cp:lastModifiedBy>Paty</cp:lastModifiedBy>
  <dcterms:modified xsi:type="dcterms:W3CDTF">2010-06-06T00:10:25Z</dcterms:modified>
  <cp:revision>4</cp:revision>
  <dc:subject/>
  <dc:title>Aspectos de Numeración Racional</dc:title>
</cp:coreProperties>
</file>