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10C3A-7337-441B-9C42-C6DD6C42C042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2902E-5575-4D41-8C97-BD8374D63A1A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73693-4ACF-4540-BC86-BE34B942BFD9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2A63E-F1C1-497F-9624-AA1DFC5FD779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0E767-02A6-4025-B46A-481DFF67B55F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B92FB-DE3F-43DB-A7EC-7C7F26B15E64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EBC7D-B89D-4A77-A4B2-E496B01D0E49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52226-D402-4968-9B8D-8D5F6956860E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6A196-8DCF-4797-B339-D7AEABEF553B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75D60-4B00-4E4D-97AF-EA2506DCD661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FAA3D-68B2-4453-926F-E71378E7A9B0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E16-EFEE-4A4A-8435-243B95D5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921-344C-43B6-8E17-B9F0BCE8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BF81C-9E82-460F-9426-44D09B35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95C9-5DFC-44A9-AF35-867475C9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D9E47-DA01-4CAA-839B-E594CA8B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878FE-92BF-4448-A2A7-2B966F8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D044B-B758-4CD2-841B-050AB3C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F0CF1-2FEB-48D7-80F9-E0BA678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DCFCD-70A2-4246-A547-CEA34AC1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CB6A9-879E-4849-B279-408A03C5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058D5-DAC1-4101-A8C4-ED524F68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08281-C085-4693-96EA-EA1E535F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130-29A8-4A1D-A70E-AD56CC5B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DE4F3-E578-45A6-9E66-C2EF9C36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4064A-DC29-434F-939D-89F8F122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B021A-31D7-4324-8B96-14E56899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1A0BA-AA21-4A85-B488-D1AAA7AC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C9992-7FA8-45A7-8C53-6CF683E7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0686E-F1E9-4135-9E90-828B79EA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47C20-C6F9-4996-B77B-CE764194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1CE90-A579-4733-A236-63FBEAF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FF624-BC98-4D7D-AD39-D0FDEB6B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EAA5B-A209-414A-9001-60FED023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D29-7EC3-4A2E-8477-828D1455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4D66A-15BE-4829-97C7-0CF977F3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FC5A1-D4E0-4BA2-9081-E56714D5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02E05-FF48-4C4A-8C5B-F2D42584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F379C-E337-4DDC-8F88-A7963254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B0E02-9FDE-45BE-8641-57E38B65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EA866-A2F9-4A4A-AE90-32AFB042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8EDD5-7686-4727-AB19-A0E99252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A5F93-7BE5-44CF-978A-8638A502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B2638-3411-4C0B-A918-13F79D9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47BD3-A657-4586-9098-8EAE4466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E190-8EC8-484B-9399-1A444808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871FD-AF4C-4C37-9F42-E1272FD3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A90A6-1932-4CDB-A00F-9E291266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5D09C-8D4A-4135-A20B-5A727965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A7253-B39D-4711-90BA-044A6A23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2BA7F-DDC7-4D2D-8087-EE0D6B94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023C6-49FA-4432-8F64-FACF872C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B329E-43B6-421F-91BF-D25F86F2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3FEEC-0193-41B7-AED9-C9ABFEC8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5D02D-0EC5-4C25-BFF8-C42513DC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A8BF8-DE35-4B1C-87A3-5CFABEAA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0DDC-7AFE-4068-812C-D1ECA218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9D862-B93A-4351-A29A-D5C42A1E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86734-D621-4A32-890D-D6B35450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69037-349D-49CE-AF70-3B98EF04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1AB6A-896C-4671-A3C9-86CD17C3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09353-1C74-4812-8264-9B6DA371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CE74-56D5-4F10-93C8-6D87151C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9D64-B468-43AC-9E6C-62D75E02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1C00-2ACE-4607-88F3-5118A7DD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9DD-9094-4B48-8F14-3590EF1B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33DB-DCF8-409B-ADD9-3C5BF947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FE6-6F78-4D5F-ADA4-9B60F2E0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E9C6-6DC8-454A-9758-CEBA31C7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9AD8-6017-4250-AFF9-1C5C029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2D4E-AD30-4A40-ABE5-85704E38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30A4-62A6-4B6A-A89E-D29FDFFF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87CC-F870-4C2D-A872-C254E742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1C5F-7708-405E-97C5-CFD70865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647C-BA33-4413-BB3E-9D939DC6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96CD-488B-4A72-B824-F9BAAF71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5A88-002D-42DD-9293-6BD9F7B2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988B-A8D4-436B-B605-0AB616B3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359-0FEA-4742-8D03-AFCFD33A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F0A1-9481-4999-A717-605460F3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7E13-1B49-446F-88AD-8FAFD63F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ED3B-B246-4C37-B5C0-0814F4F0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3CA5-4CE8-4B1B-B6F7-8BFEAE14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4854-E0FB-4AE3-AA4B-8859570E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68C7-E265-474D-93A7-BF6BB106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C920-C21A-489B-A077-8C7F900A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F557A-91A7-4A86-89B9-60CA4396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A5E2-EB23-4E21-BC54-66BBD7A9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BD52-0707-4E77-AD23-5C0C7035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5A3-D675-4E7E-9C6D-22AAC4C5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6BF04-598D-454F-ACB2-1841C8C4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C61F-6549-4D3C-B4C9-AAD76E0A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3908-7FDE-4CF8-B151-12CA8337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8C6B0-6676-453F-B408-B0FBBF7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3940-367B-4F19-83C0-437D4EF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025C-B7D8-468D-ABBC-E22E734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99D7-32D4-4EC5-85B5-EFB6746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5870-C41E-4AF1-BE04-0B0EF207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9C2B-85DC-474A-8E82-4EB32AC7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B0570-1D3A-4FE7-BBAA-24C5ED93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D73-9B13-43D6-934C-2301ECFC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B5C3-2E2D-4AE3-8F68-F393D96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DBA40-10E9-4656-9F04-E6AE1D2E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160CB-BA06-4C35-BB22-7198E3C1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AFDC-4537-4F01-A649-D27F27B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D17D-5F9D-4E66-BE92-C1A48F2D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AB4DD-87CA-40DF-8C6A-47F26F2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ADC91-9F8A-4A5F-8C73-388479D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EEA7F-7E56-47D4-8F2E-D79D1CB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11286-82FC-474F-9E3D-07CB1E0D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BD63E-6E48-4C3A-AE93-1C7BF7B1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1BA-2C32-4F2C-8C76-D07F2019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57C6-1186-4750-95A6-A89C01BB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79F22-43BB-4151-BBCE-83E207B9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EE9AB-2233-4ACE-A1B1-3A41101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A7DEB-D4B4-4B3E-931D-AA722A63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C21AB-5BCE-4DB1-85AC-3E83C57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854ED-C0A4-4721-B0B0-7FE64BE7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FA96A-4BA3-4EFF-9085-6816BF34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29F3D-268F-47BC-93B0-549BA0F8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8C57B-59E2-48EF-A9C7-2BACE15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CC149-CA60-4882-AA15-0CCB98F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959-7BA3-4380-9CDE-B1797579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D0151-FF4D-41D0-845A-0A3FB84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C6F35-D73D-427F-B04D-ECB8C89C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3A8C6-23A5-4906-86C3-6FC97EAA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5900-A5C7-415B-BEEB-FBEFDBC7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E5214-50D8-49BE-BDA6-53B48E81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56B95-3C6E-43F1-9AD2-A1F0BBCB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3587D-7EB6-43D3-9746-9F674B5A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F2AF-EB26-4011-A87F-11D9BA8C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48E4C-CB13-44CB-9711-65F94513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B36C9-5F47-4A31-ACA3-0891A3C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62D-5190-4EBA-BBA5-251EB4A5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57FB2-AABD-4E97-856A-98C4A45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47F7B-F0B9-442B-95F5-BB4126BA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65394-C089-4313-BBF2-24D2F95D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2B349-F9FF-438A-82E5-CF9F0894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2AD14-3260-4B60-B51A-BAD310EC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874BE-0C05-4F86-B4C0-764EA17E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C139F-373D-4A42-99EA-020BBDAF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8CAA1-18B6-480E-9764-B07CA068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21A17-7C2C-417A-811C-7E2E7F55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12124-5ED3-4B1D-A562-FD3443E1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198-2BE5-4F45-989F-0B2807B3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A70ED-0CB9-4939-89D0-214B1A8A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B5444-CEB9-42F3-B2B0-80A71831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5B032-1A3D-408A-BB3F-9B336B44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75258-C65A-4D0F-BFEC-12A037D4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4FD6E-0577-44C2-BA6C-346E38AA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C79ED-5819-4949-98A8-95FA6060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FBCF4-0AD3-46DF-99A8-AFBE187B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FE1B9-54CE-424F-8031-14975DC4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68766-93E6-4603-B5B8-B26B26C1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0AA93-AF94-494D-ADA1-1ACD297B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91FD-7F1F-4870-BA04-F7EDCE763ED4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1062-C1E6-4A67-BECE-FAF302E7BC6F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50F9-EF60-4794-909D-8E68C146AAD2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A702-0CC6-4F62-B807-BF26BA12CCDA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8BD1-9E6C-4677-9B82-2129DBA3EB23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DCF8-8BF7-4C9B-B4FC-D5C31B2489D5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6D39-9A9A-41BE-83FB-8DF70BB45D7C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223A-3F8B-49BA-998D-A6B4EB4D1D70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0E66-7760-49F2-A69F-7B984217F734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B38-0EBA-47D8-8EBB-31FF15BD6F57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9FF2-8A5A-46A5-B4F8-2A19ED04F6F7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CB90-7CE5-4D46-9A15-77AE0669D767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4 de Junio de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Inspección Departamental de Educación Inicial y Primaria de Tacuarembó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anklin Gothic Book"/>
              </a:rPr>
              <a:t>Junta de Directore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96464"/>
                </a:solidFill>
                <a:latin typeface="Franklin Gothic Book"/>
              </a:rPr>
              <a:t>Aspectos de Numeración Racional</a:t>
            </a:r>
            <a:endParaRPr b="0" lang="en-US" sz="4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Perpetua"/>
              </a:rPr>
              <a:t>Vinculación con el nuevo progra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16 Rectángulo"/>
          <p:cNvSpPr/>
          <p:nvPr/>
        </p:nvSpPr>
        <p:spPr>
          <a:xfrm>
            <a:off x="2643120" y="857160"/>
            <a:ext cx="321480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2819520" y="10666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CEPTO DE NÚMERO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4 Flecha abajo"/>
          <p:cNvSpPr/>
          <p:nvPr/>
        </p:nvSpPr>
        <p:spPr>
          <a:xfrm flipH="1">
            <a:off x="2571840" y="1857240"/>
            <a:ext cx="285840" cy="1285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5 CuadroTexto"/>
          <p:cNvSpPr/>
          <p:nvPr/>
        </p:nvSpPr>
        <p:spPr>
          <a:xfrm>
            <a:off x="1371600" y="3581280"/>
            <a:ext cx="214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6 Flecha abajo"/>
          <p:cNvSpPr/>
          <p:nvPr/>
        </p:nvSpPr>
        <p:spPr>
          <a:xfrm>
            <a:off x="4929120" y="1785960"/>
            <a:ext cx="214560" cy="135720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7 CuadroTexto"/>
          <p:cNvSpPr/>
          <p:nvPr/>
        </p:nvSpPr>
        <p:spPr>
          <a:xfrm>
            <a:off x="450072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8 Abrir llave"/>
          <p:cNvSpPr/>
          <p:nvPr/>
        </p:nvSpPr>
        <p:spPr>
          <a:xfrm>
            <a:off x="6072120" y="2928960"/>
            <a:ext cx="142920" cy="1928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928880"/>
              <a:gd name="textAreaBottom" fmla="*/ 19252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9 CuadroTexto"/>
          <p:cNvSpPr/>
          <p:nvPr/>
        </p:nvSpPr>
        <p:spPr>
          <a:xfrm>
            <a:off x="6215040" y="2643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PRESEN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10 CuadroTexto"/>
          <p:cNvSpPr/>
          <p:nvPr/>
        </p:nvSpPr>
        <p:spPr>
          <a:xfrm>
            <a:off x="6286680" y="2928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11 CuadroTexto"/>
          <p:cNvSpPr/>
          <p:nvPr/>
        </p:nvSpPr>
        <p:spPr>
          <a:xfrm>
            <a:off x="6286680" y="32148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ALOR POS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12 CuadroTexto"/>
          <p:cNvSpPr/>
          <p:nvPr/>
        </p:nvSpPr>
        <p:spPr>
          <a:xfrm>
            <a:off x="6357960" y="3857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GULAR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13 CuadroTexto"/>
          <p:cNvSpPr/>
          <p:nvPr/>
        </p:nvSpPr>
        <p:spPr>
          <a:xfrm>
            <a:off x="6286680" y="43578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POSICIÓN Y DESCOM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36576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505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13 Rectángulo"/>
          <p:cNvSpPr/>
          <p:nvPr/>
        </p:nvSpPr>
        <p:spPr>
          <a:xfrm>
            <a:off x="1500120" y="1428840"/>
            <a:ext cx="5500800" cy="357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11 Rectángulo"/>
          <p:cNvSpPr/>
          <p:nvPr/>
        </p:nvSpPr>
        <p:spPr>
          <a:xfrm>
            <a:off x="2071800" y="1928880"/>
            <a:ext cx="37861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0 Rectángulo"/>
          <p:cNvSpPr/>
          <p:nvPr/>
        </p:nvSpPr>
        <p:spPr>
          <a:xfrm>
            <a:off x="2643120" y="2214720"/>
            <a:ext cx="2786040" cy="142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9 Rectángulo"/>
          <p:cNvSpPr/>
          <p:nvPr/>
        </p:nvSpPr>
        <p:spPr>
          <a:xfrm>
            <a:off x="3143160" y="2643120"/>
            <a:ext cx="20718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2 Rectángulo"/>
          <p:cNvSpPr/>
          <p:nvPr/>
        </p:nvSpPr>
        <p:spPr>
          <a:xfrm>
            <a:off x="5857920" y="1928880"/>
            <a:ext cx="5713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4 CuadroTexto"/>
          <p:cNvSpPr/>
          <p:nvPr/>
        </p:nvSpPr>
        <p:spPr>
          <a:xfrm>
            <a:off x="1071720" y="71424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85840" y="214200"/>
          <a:ext cx="8103960" cy="5829480"/>
        </p:xfrm>
        <a:graphic>
          <a:graphicData uri="http://schemas.openxmlformats.org/drawingml/2006/table">
            <a:tbl>
              <a:tblPr/>
              <a:tblGrid>
                <a:gridCol w="2076480"/>
                <a:gridCol w="602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er.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presentación gráfica de frac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s fracciones menores que la un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en medios y cuar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642960" y="573120"/>
          <a:ext cx="7929720" cy="6254640"/>
        </p:xfrm>
        <a:graphic>
          <a:graphicData uri="http://schemas.openxmlformats.org/drawingml/2006/table">
            <a:tbl>
              <a:tblPr/>
              <a:tblGrid>
                <a:gridCol w="1981080"/>
                <a:gridCol w="5948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como punto de un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comparación y ordenación de fracciones : ½-1/4 – 1/8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lación de equivalencia de fracciones conocidas. F &gt;1 y   F &lt;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con medios,cuartos,tercios y quin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571680" y="476280"/>
          <a:ext cx="8103960" cy="6327720"/>
        </p:xfrm>
        <a:graphic>
          <a:graphicData uri="http://schemas.openxmlformats.org/drawingml/2006/table">
            <a:tbl>
              <a:tblPr/>
              <a:tblGrid>
                <a:gridCol w="202392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684360" y="836640"/>
          <a:ext cx="7920000" cy="541188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0:30:06Z</dcterms:created>
  <dc:creator>cliente</dc:creator>
  <dc:description/>
  <dc:language>en-US</dc:language>
  <cp:lastModifiedBy>Paty</cp:lastModifiedBy>
  <dcterms:modified xsi:type="dcterms:W3CDTF">2010-06-06T00:10:25Z</dcterms:modified>
  <cp:revision>4</cp:revision>
  <dc:subject/>
  <dc:title>Aspectos de Numeración Racional</dc:title>
</cp:coreProperties>
</file>