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3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MX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ftr" idx="3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 type="sldNum" idx="3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MX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1A869-E29C-4854-A6C5-3D8318FF1A44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52F0D-AF6D-42B1-AD2D-8726D33953F1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FB285-DA31-4A1C-9EA6-90147DF42792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A4CD8-9133-4DEB-A515-35E1439041A3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2CB4B-690E-49CF-BA17-1387218DD4D6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62093-55AA-401B-9EBE-275F17E6758F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4813B-446F-41BD-B67B-69D61C068249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A2C60-45CE-44D6-82C4-7CB79F060A67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EF59C-D033-43D7-819D-293227C3BFE7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D9999-F722-4079-B6EB-6372ADEBC58C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DD413-520B-4085-A455-1EFFDAC5DDFB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2D99-E3A1-4994-8D96-819471EF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82D6-D246-47B4-B980-F7FF17D1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7A3C7-7E60-468A-801F-E7BB4292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E8BF8-58C8-400A-B71A-2AEF8590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6D98C-5A6C-4949-B7D3-45AED642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F855A-A3B3-4774-9B6D-21A1A736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29BD4-C9C4-49C9-AB3F-2B831E6C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5EA24-B6C7-4905-B89B-02F5EDA0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A7BB7-A8EB-4B6B-A84D-AF6FA9D1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1C98E-6880-46CD-9A30-29A0D3D7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1EA88-EECF-4AC4-86EC-8AD3DE3C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3F516-66ED-4787-A3C3-6BF1EBF4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A673-5890-475E-B0D5-5B1AC1C5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15A26-4D77-47EB-A3EA-0554AD27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9508A-1265-4A76-903C-1D727BD6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0F788-1E0F-4ADA-B247-7A18C864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2683A-498C-4C96-A9B9-24E864F0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9288F-33F6-45D7-B2C2-6ECACFC9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88E6C-4CF5-4F9E-BEAA-09608085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1DA04-2896-4CBF-ADDD-34AD14FB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729BE-A557-470F-A8B2-61E20C0A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1743A-3524-496C-A087-6C8BBDAD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0F194-6C75-4AF0-AC48-CE3B73C1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28A6-9CC6-403B-865F-39BC283A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6FAF5-64E6-418D-8D21-3D40FB9B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D5006-68FE-4F9B-AD88-85881A85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48592-B935-43BE-B7D1-A205CA78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BB960-6436-4D09-A16E-371B8885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8B01D-A0C4-47F2-A3A7-B8E8043B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6D787-56EA-411D-BFAE-57A18406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15052-16AB-4F12-9C29-058B0079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C731D-2CEC-46D5-9530-888B3518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2E4FF-019B-44E8-A009-FB42EE46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8DF6A-8083-4147-A7B1-D1AC75D1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2E3B-3BFC-4852-B41C-F3E93594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6AC42-9171-4A24-B93D-815B1FFB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B39FB-E646-4259-B3EE-D931E6A4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D6692-D971-443E-BF24-577E68A8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ECD2F-C77B-4FAD-AA28-96013CC9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664B3-22B3-4CC6-BDCB-BA101114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26739-272B-4164-B9F8-52F8930D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331CE-61B9-4CA0-84F7-B72BC1E8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3C51E-00B9-43DF-B4B9-8CD3C861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B9553-A830-4B2F-AB8D-231278D9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EC25F-16FB-4368-B9DA-E248FBFE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687B-686D-4051-A129-F5E34E5C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83F9A-B7D0-4768-B95F-178FB020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D6B8B-76C2-4034-8C99-9993C944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4CDDF-400A-44F1-8337-33EBC0A5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F980E-998C-4841-B619-A72B2099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01215-A89D-4A7A-A944-1E0F7210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97B5-6F79-49FC-84C6-E0424F60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A6FB-8F66-4931-99E7-3982A8D8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A44C-7C1C-4F68-9628-715CF43C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21B5-1950-4E7A-9C8B-C84AD9B8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6E7F-C934-4204-9212-44E46CC7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E78-E96B-4D3B-8EAC-0EA04A3C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E368-D3C1-46B7-81A3-697BFB60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B57B-DE05-424B-AF0A-08D8199B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456B-6CF1-4CC7-B40D-5E7B4A00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0786-4E0A-4C66-9738-80CF35E9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9FD7-5B64-41AD-A91A-4A93D89A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3497E-2830-4994-A5DF-8AB01256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16CE4-31A8-4D53-9361-6361ECDB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B9B67-A346-431D-9746-5CA9A7CD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A76DC-3AC0-4D80-8A10-008BCEC4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083D5-0497-441D-81F2-FDE35323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CFF-26EA-4AF2-A748-058B6655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A82E4-84A4-4CEE-B45A-198E2D60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C7C4E-9BC1-4386-BC15-93A25506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E2DC9-6AE4-4BF3-8552-485BBBA1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A7AD5-0541-45B8-B055-0FBE0EB6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D6D6C-A8A8-4385-8291-ADA6C637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B0CBB-FF56-4E5F-8948-EEB3193C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1304A-F7A9-4541-BCA6-8E5B2C26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2A21E-2F44-4B77-B265-A6BFA9A9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7441F-D18A-4304-8031-0C71BC9D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B6108-5640-4F1E-933A-87A449F2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25BB-D1B3-46A6-A6F8-52EFBA06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C2246-75A7-4791-ADF7-74E3AD2E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18383-9202-490A-8808-EF1213EF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0C7DD-D6B6-4437-AA61-037B5EF4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E10C7-3A1D-41D3-A21B-119FDD84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24B1A-D6D3-418A-8AE0-42F84058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9C514-AABB-4225-AEA1-5C7B54F1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87302-ABA7-4B7C-B22B-4E54A2C4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1A0BB-DA8A-486E-9F96-401D87A5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1207E-54B8-4267-A8FF-181A64C0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5831C-B9DD-46F8-9804-43C51976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95C2-D39A-4F44-BE5E-33F6D373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81951-DA3F-4E82-BE87-36CCED82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630CA-64B6-4DB3-9C97-115FC141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C7647-44B6-4C09-A6D5-01D236E4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3E6CC-584A-421F-BE50-CE5D0040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39146-9A6D-449B-ACAF-B988DAD8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C391E-F4D4-4D08-8F45-323A6975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10A4B-2CDE-46B2-88CA-E02E0A99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9F790-92A2-4FCA-BFBE-14312E76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20C0A-272C-42B0-8CF1-CD58E7B5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D4BF6-5D8A-4AA9-817A-EDCA69DE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1894-8ED7-4C57-BBBA-96D9D820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08C83-CFAE-46BE-B256-61AEE00B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0609D-BCC5-41A9-8258-BEC7794F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4AC6D-0220-4514-9C3D-5AF1C194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83E5F-F55A-44A3-942C-008689C8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2CCDE-2487-4414-9D5C-D38F8157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5BFDC-DA19-415D-B2FE-7112609B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66964-307B-409B-8265-AD0E8311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D9B76-BDF4-4483-A668-DD4BE335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CB2A7-527E-4325-BB26-F9D7133A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E6744-3AFF-4253-9B78-9A7AAE66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7AA-26B1-4754-A073-31986BF2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922A1-A507-46F3-9CE1-5E7C59BC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59A5D-6D07-4EF4-943A-DF97C32E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04604-3FD7-4D43-B1B3-C3B1A90E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8513D-0ADB-453F-8786-86A3243B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43A4A-4F15-48CB-BE35-832FB746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C61B3-A069-427B-B39C-3D0AAC8E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095C5-566E-44C5-B382-20C45F24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DA81B-D3DC-497D-98D8-7193D0EA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89AF0-B9C5-40E9-911A-7D7B24AD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5E898-A2F3-426C-B9E2-17954C46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070F-8A70-4DB3-85F5-AD27E150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36D09-4657-4C8E-938A-4DC3C4FE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0FA76-B577-413E-9579-9001A136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AB532-8C5D-4118-8B48-E0CAD00C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1E668-65C0-4687-8C85-192527D3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8385A-752B-4057-8E55-E9D72F5C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35DE7-8F01-4417-A0F3-C95B907E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C07FF-D8D5-4288-A24E-E9FA60C0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56DBF-2C34-4936-B8FD-B578CADB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EBCE1-5AE3-4B02-BEF1-FA14F19C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7329A-B410-4ADF-8E7B-74EF0EC9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537D-1F6B-404F-B7C3-6C14F07C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7E463-EA0E-4B07-8684-BEC87E41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87CA0-446C-4479-8857-89D51D13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75374-4E54-44F9-A796-809E38F4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6A457-BB1A-4221-B592-4AE7A39B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EA33B-DBCE-4AE7-A535-D108AEFA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9BAF4-71AB-4D14-93D3-2BB32258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CE1D4-E5BF-4319-B407-3F5DA52D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F6FE8-3265-432E-A1CE-D009DC1C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3EF83-8EE4-4ACC-BB47-6F30D2E8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6437F-E2BB-455B-8D7F-1BF74F1E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6854-FD00-405E-9B5C-B3D68BD5972B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9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10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11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F05E-8A99-4C17-A3C3-2FC828A2316C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EE94-D69C-4BD9-AF53-280B6FBFF804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DFF3-8D7A-4DD8-B0F3-7AE486404604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209B-8BE7-4C60-9125-42ABBC0A3D86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A251-06E3-4017-926A-80FC43E70B0F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10 Rectángulo redondeado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4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11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2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14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16B3-FA24-44DA-ABBB-9AF248EE0B5B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96B2-109C-4DCD-81CB-4CDE45A6F0DF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FE66-2361-4E2A-AD1A-65E42657AD3D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8EA5-34A8-4278-8D49-809F609CB5CC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9E63-CF45-4294-BF07-3947A4755BB9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A7DB-9F79-44B0-B691-A147726471AA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696464"/>
                </a:solidFill>
                <a:latin typeface="Perpetua"/>
              </a:rPr>
              <a:t>4 de Junio de 2010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696464"/>
                </a:solidFill>
                <a:latin typeface="Perpetua"/>
              </a:rPr>
              <a:t>Inspección Departamental de Educación Inicial y Primaria de Tacuarembó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Franklin Gothic Book"/>
              </a:rPr>
              <a:t>Junta de Directores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684360" y="836640"/>
          <a:ext cx="7920000" cy="570852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º año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sidad (usa el orden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s y multiplicati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696464"/>
                </a:solidFill>
                <a:latin typeface="Franklin Gothic Book"/>
              </a:rPr>
              <a:t>Aspectos de Numeración Racional</a:t>
            </a:r>
            <a:endParaRPr b="0" lang="en-US" sz="4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Perpetua"/>
              </a:rPr>
              <a:t>Vinculación con el nuevo program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16 Rectángulo"/>
          <p:cNvSpPr/>
          <p:nvPr/>
        </p:nvSpPr>
        <p:spPr>
          <a:xfrm>
            <a:off x="2643120" y="857160"/>
            <a:ext cx="3214800" cy="85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3 CuadroTexto"/>
          <p:cNvSpPr/>
          <p:nvPr/>
        </p:nvSpPr>
        <p:spPr>
          <a:xfrm>
            <a:off x="2819520" y="1066680"/>
            <a:ext cx="2971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NCEPTO DE NÚMERO R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4 Flecha abajo"/>
          <p:cNvSpPr/>
          <p:nvPr/>
        </p:nvSpPr>
        <p:spPr>
          <a:xfrm flipH="1">
            <a:off x="2571840" y="1857240"/>
            <a:ext cx="285840" cy="12859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5 CuadroTexto"/>
          <p:cNvSpPr/>
          <p:nvPr/>
        </p:nvSpPr>
        <p:spPr>
          <a:xfrm>
            <a:off x="1371600" y="3581280"/>
            <a:ext cx="2143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POS NUMÉ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6 Flecha abajo"/>
          <p:cNvSpPr/>
          <p:nvPr/>
        </p:nvSpPr>
        <p:spPr>
          <a:xfrm>
            <a:off x="4929120" y="1785960"/>
            <a:ext cx="214560" cy="1357200"/>
          </a:xfrm>
          <a:prstGeom prst="downArrow">
            <a:avLst>
              <a:gd name="adj1" fmla="val 50000"/>
              <a:gd name="adj2" fmla="val 4993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7 CuadroTexto"/>
          <p:cNvSpPr/>
          <p:nvPr/>
        </p:nvSpPr>
        <p:spPr>
          <a:xfrm>
            <a:off x="4500720" y="34290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SP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8 Abrir llave"/>
          <p:cNvSpPr/>
          <p:nvPr/>
        </p:nvSpPr>
        <p:spPr>
          <a:xfrm>
            <a:off x="6072120" y="2928960"/>
            <a:ext cx="142920" cy="192888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928880"/>
              <a:gd name="textAreaBottom" fmla="*/ 192528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"/>
                  <a:pt x="10800" y="133"/>
                </a:cubicBezTo>
                <a:lnTo>
                  <a:pt x="10800" y="10667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7"/>
                  <a:pt x="10800" y="10933"/>
                </a:cubicBezTo>
                <a:lnTo>
                  <a:pt x="10800" y="21467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9 CuadroTexto"/>
          <p:cNvSpPr/>
          <p:nvPr/>
        </p:nvSpPr>
        <p:spPr>
          <a:xfrm>
            <a:off x="6215040" y="26431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REPRESENT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10 CuadroTexto"/>
          <p:cNvSpPr/>
          <p:nvPr/>
        </p:nvSpPr>
        <p:spPr>
          <a:xfrm>
            <a:off x="6286680" y="292896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11 CuadroTexto"/>
          <p:cNvSpPr/>
          <p:nvPr/>
        </p:nvSpPr>
        <p:spPr>
          <a:xfrm>
            <a:off x="6286680" y="32148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ALOR POS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12 CuadroTexto"/>
          <p:cNvSpPr/>
          <p:nvPr/>
        </p:nvSpPr>
        <p:spPr>
          <a:xfrm>
            <a:off x="6357960" y="38577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REGULAR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13 CuadroTexto"/>
          <p:cNvSpPr/>
          <p:nvPr/>
        </p:nvSpPr>
        <p:spPr>
          <a:xfrm>
            <a:off x="6286680" y="435780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MPOSICIÓN Y DESCOM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371600" y="3657600"/>
            <a:ext cx="14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66680" y="35053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13 Rectángulo"/>
          <p:cNvSpPr/>
          <p:nvPr/>
        </p:nvSpPr>
        <p:spPr>
          <a:xfrm>
            <a:off x="1500120" y="1428840"/>
            <a:ext cx="5500800" cy="357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11 Rectángulo"/>
          <p:cNvSpPr/>
          <p:nvPr/>
        </p:nvSpPr>
        <p:spPr>
          <a:xfrm>
            <a:off x="2071800" y="1928880"/>
            <a:ext cx="378612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10 Rectángulo"/>
          <p:cNvSpPr/>
          <p:nvPr/>
        </p:nvSpPr>
        <p:spPr>
          <a:xfrm>
            <a:off x="2643120" y="2214720"/>
            <a:ext cx="2786040" cy="142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9 Rectángulo"/>
          <p:cNvSpPr/>
          <p:nvPr/>
        </p:nvSpPr>
        <p:spPr>
          <a:xfrm>
            <a:off x="3143160" y="2643120"/>
            <a:ext cx="20718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12 Rectángulo"/>
          <p:cNvSpPr/>
          <p:nvPr/>
        </p:nvSpPr>
        <p:spPr>
          <a:xfrm>
            <a:off x="5857920" y="1928880"/>
            <a:ext cx="57132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14 CuadroTexto"/>
          <p:cNvSpPr/>
          <p:nvPr/>
        </p:nvSpPr>
        <p:spPr>
          <a:xfrm>
            <a:off x="1071720" y="714240"/>
            <a:ext cx="66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POS NUMÉ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0" name=""/>
          <p:cNvGraphicFramePr/>
          <p:nvPr/>
        </p:nvGraphicFramePr>
        <p:xfrm>
          <a:off x="285840" y="214200"/>
          <a:ext cx="8103960" cy="5829480"/>
        </p:xfrm>
        <a:graphic>
          <a:graphicData uri="http://schemas.openxmlformats.org/drawingml/2006/table">
            <a:tbl>
              <a:tblPr/>
              <a:tblGrid>
                <a:gridCol w="2076480"/>
                <a:gridCol w="6027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er.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representación gráfica de fraccion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s fracciones menores que la unid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unidad en medios y cuart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1" name=""/>
          <p:cNvGraphicFramePr/>
          <p:nvPr/>
        </p:nvGraphicFramePr>
        <p:xfrm>
          <a:off x="642960" y="573120"/>
          <a:ext cx="7929720" cy="6254640"/>
        </p:xfrm>
        <a:graphic>
          <a:graphicData uri="http://schemas.openxmlformats.org/drawingml/2006/table">
            <a:tbl>
              <a:tblPr/>
              <a:tblGrid>
                <a:gridCol w="1981080"/>
                <a:gridCol w="5948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como punto de un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comparación y ordenación de fracciones : ½-1/4 – 1/8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relación de equivalencia de fracciones conocidas. F &gt;1 y   F &lt;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unidad con medios,cuartos,tercios y quint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"/>
          <p:cNvGraphicFramePr/>
          <p:nvPr/>
        </p:nvGraphicFramePr>
        <p:xfrm>
          <a:off x="571680" y="476280"/>
          <a:ext cx="8103960" cy="6327720"/>
        </p:xfrm>
        <a:graphic>
          <a:graphicData uri="http://schemas.openxmlformats.org/drawingml/2006/table">
            <a:tbl>
              <a:tblPr/>
              <a:tblGrid>
                <a:gridCol w="2023920"/>
                <a:gridCol w="6080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decimal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l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=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analiza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"/>
          <p:cNvGraphicFramePr/>
          <p:nvPr/>
        </p:nvGraphicFramePr>
        <p:xfrm>
          <a:off x="684360" y="836640"/>
          <a:ext cx="7920000" cy="541188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º año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º mix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resentación en la rec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valo entre FF de igual y distinto denominador.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edios, cuartos, octavos, tercios, sextos, novenos, quintos…)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cent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684360" y="836640"/>
          <a:ext cx="7920000" cy="539280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º año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. Decimal, fraccionaria y mixt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er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resentaciones gráf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 igual y distinto numerador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mil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 y multiplica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20:30:06Z</dcterms:created>
  <dc:creator>cliente</dc:creator>
  <dc:description/>
  <dc:language>en-US</dc:language>
  <cp:lastModifiedBy>Paty</cp:lastModifiedBy>
  <dcterms:modified xsi:type="dcterms:W3CDTF">2010-06-06T00:10:25Z</dcterms:modified>
  <cp:revision>4</cp:revision>
  <dc:subject/>
  <dc:title>Aspectos de Numeración Racional</dc:title>
</cp:coreProperties>
</file>