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dt" idx="37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s-MX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s-MX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sldImg"/>
          </p:nvPr>
        </p:nvSpPr>
        <p:spPr>
          <a:xfrm>
            <a:off x="939600" y="750960"/>
            <a:ext cx="5010120" cy="3757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 type="ftr" idx="38"/>
          </p:nvPr>
        </p:nvSpPr>
        <p:spPr>
          <a:xfrm>
            <a:off x="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 type="sldNum" idx="39"/>
          </p:nvPr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s-MX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CFFABE-C01E-493A-A6AD-C37B4B282112}" type="slidenum">
              <a:rPr b="0" lang="es-MX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3 Marcador de número de diapositiva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B28DD8-6B1F-4D43-B75C-379A4C217B16}" type="slidenum">
              <a:rPr b="0" lang="es-MX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3 Marcador de número de diapositiva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DE4252-4A38-4A95-95C7-C3BBEAFC5249}" type="slidenum">
              <a:rPr b="0" lang="es-MX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3 Marcador de número de diapositiva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E48BC8-DC19-444E-BA07-62E511E4CE14}" type="slidenum">
              <a:rPr b="0" lang="es-MX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3 Marcador de número de diapositiva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EBA10D-88C8-4A93-8A0A-EDD6DCBC50C0}" type="slidenum">
              <a:rPr b="0" lang="es-MX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3 Marcador de número de diapositiva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614BAF-B91C-484C-BB09-44F2B3CF731B}" type="slidenum">
              <a:rPr b="0" lang="es-MX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3 Marcador de número de diapositiva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10E29E-9662-4F81-917F-AE0F847CBECA}" type="slidenum">
              <a:rPr b="0" lang="es-MX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3 Marcador de número de diapositiva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A67ABA-3E18-4E87-8FEC-1B5CC6080A1E}" type="slidenum">
              <a:rPr b="0" lang="es-MX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3 Marcador de número de diapositiva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E5951D-E9E5-498F-B2D5-326FEB7503F2}" type="slidenum">
              <a:rPr b="0" lang="es-MX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3 Marcador de número de diapositiva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F3B00D-9D0F-4492-8FB9-9B1C17AC65BE}" type="slidenum">
              <a:rPr b="0" lang="es-MX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3 Marcador de número de diapositiva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3CE8EB-D176-4128-B94D-005AA29E6EFD}" type="slidenum">
              <a:rPr b="0" lang="es-MX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CDE6-A5CB-419C-BBBC-EED2CA3C0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A174-E05A-48E6-A43E-A4EFCC421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57948E-4E3C-4E32-9340-F06CAA9DF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30428C-1A49-4BED-9538-5A3A55A9A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43137A-9E22-4CFA-86C7-4A8A1685E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5C325A-239D-4618-8A76-C579E5A8D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C8E92C-5D65-4FD3-B30C-F1E4B8D2D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54F58D-FF8C-4A14-BBA4-E38ABC5E3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6CE9A8-1DA3-4629-BDCA-EA798F805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B9D5EB-C97D-45FF-86EE-F8C53C3C8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5D873A-216E-4C28-8B0E-95A41F206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7C6AF7-38FB-4F4B-82C8-D142764D9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5603-4897-4B43-88EA-F3BE68C36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83F8B4-1A6E-4E08-BFA8-D5467C523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60CAC1-1136-4C36-9BF1-A44FA863A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C0B957-CFA3-4DCE-A644-D7486EDA4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4B7CA0-D795-4B3C-B856-4A8475B32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512ADF-3EEB-4E3E-85C4-831230DE8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FEBFED-43BF-40C7-8699-B592A9440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B3BD31-3D9B-4998-8688-9B2751805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D6CE12-B200-4AD1-872D-8D2639274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A5B443-8EF1-451F-B8BF-09F21A3C0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250F00-23BA-4EDF-A36E-998473D09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19E8-DAE0-40C9-BB16-419D59364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F250AC-475F-4AE6-8DD3-CD03C459C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44D274-8BDC-4DC6-9E98-48BC0DD7D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A28C6C-AA57-4EB5-932F-B7929946A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D2E2D2-B078-4008-8CCF-1AEC0A074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A19BBD-F8A1-4029-88EB-796817E35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2F5ABB-7CBA-40A3-B7B6-274DEB3D4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50C501-5397-44F7-A511-A0AFECE4C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73E17A-2DEF-43E4-815A-7FC18FF2C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2B8B64-4B54-4EEB-AB55-872FFB30A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19ED57-F556-476C-A189-13B591D09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60EC8-B0D6-4E1C-B9F7-69C152DE8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4DC0A1-AB48-4489-92FE-5CD47172F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20FAD5-4747-4EA8-90BB-4CFC1A0B1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F543FC-27EE-485F-9D62-275BB6075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EC6B48-4615-4D98-A817-0D3350AC8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4A31F8-81AC-4CB7-B5A6-9027B56B0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3F4790-EDBD-4D25-B4E5-845A9DDF0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856E2C-8AE1-4DA9-8EFE-C1393DDBD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8DD3C3-8BC3-42CD-92E0-7AA28054F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8FFF5B-890A-4910-B0E2-A92C7AE9C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ED38FD-9179-4492-85AA-CEA63B27F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FFDF4-CCFB-4E93-9B8A-36B1E3883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156630-267C-4220-9926-63A0BACB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61AB82-4049-4020-9C81-E11685835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518DA8-6215-45BE-884E-3B4071CA3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FC4A6F-E6EE-438E-AFDD-8003FD4AD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110E5F-D999-4494-B1B9-6FD3AB0B1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68C12-5F89-4149-ADF8-3F7790C9E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A84D7-20C3-4786-83CF-EC3838154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32B1B-4B9C-4212-99EE-969B795C9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921FD-9136-4784-9A61-F84A7E17E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F585C-C3DA-43BA-9BB0-739358DE9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4729-DC4A-4BCA-B6F6-FCBAF1015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DD14D-8035-464B-87B9-98BA5E7F6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3D7CE-E17D-4877-AF0E-590C72C30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A8EE7-ABE5-45B6-BF92-FD0277714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55455-11DC-45D8-84FA-7F62BE37C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17527-73E1-4231-ABE6-C10C024AE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0A4E3-28C9-4E33-B763-7FABAE046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CBA69-C31B-4195-82DE-F4F5FB431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A711D-2C9D-474C-BE3A-A4B83073D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774E8-19D3-4374-B6AB-705304DFA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08DE4-63F4-4ADD-BFC7-D8CED9ABE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7E21-BCEC-447D-84BD-952643A68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2A177-FB4D-4A19-AF10-7494516E2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DC683-9B3E-4D12-95B9-35C519C66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DFB2F-0FC1-4A48-93BE-DCB2C6171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F70E9-344C-48CB-B302-DA8FA284D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91F6D-3466-4C59-B1E7-B3C21B225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4C5F7-5EB3-4198-9BF1-8E032F15E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7C61B-2079-47DA-81B5-243142108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2ED40-C88A-4D54-A9BB-6275E0577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34FEC-A301-4B90-815A-9C4E63808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1E050-490C-435F-82DA-6BC417FC7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3338-DAEE-4319-9B17-2D78AA159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A1B00-82BC-4613-88A0-2324A7020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CF333-DC5A-4A74-96A3-60FEC761E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C24FC-391B-47FB-82C2-420E2B654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05E98-5F75-476A-9C4B-C0E62DA7F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60C2C-638E-4FFA-9E15-E1E9B500E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906EC-BB63-451F-9E35-032179629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9CABF-6CB5-41AA-83DE-9CB1BADB9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B535A-6DC6-4EDF-BC82-4024970BA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16434-83E7-4B0A-A7F7-5452BA7CB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8D7B5E-651A-4B5E-8FEB-B847CB613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AADE-2E63-4B82-A27F-7D28E132C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A6DE03-BE6B-46C2-964A-E9BA64C81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37DEE-9A07-4E7F-B400-154718B80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3F45FF-7BA3-41F5-9A1B-966855C3A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46A493-2DB7-4407-B6E8-4BC38F972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22FD95-43D9-41D8-B891-FBC7530AB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B33E5-7A07-4B6C-960C-3F0465539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20814B-FA66-4198-BAFA-4783D604A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4EB686-EA65-4D67-8B81-044C7852A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59100B-9B98-4365-B772-9A9FE71E0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68A014-FEE8-4C9B-9F11-3F8FA8A53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F3D2-82C2-4A95-8C72-DEA7F19BF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CEB687-8BCC-4107-AA0A-455EBCA9B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410987-B79A-4376-A15A-9E00CCAD8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C73294-9BEB-4AFA-93E4-B6D507389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69B910-C100-4BB5-9CE5-93319A7A9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4031D9-F63D-4DDD-8B2D-50B3083FB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C48052-1416-4C61-B2E2-E9E041D41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AAB511-A56E-40F3-92A9-832153E94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4435FF-F568-49C7-951E-F4327DD61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60884A-CD43-4678-8593-0B7B5070D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B69903-8F98-463C-9D3D-C62815A95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7A51-FF6F-433E-87ED-72BB3F5F6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98D8DE-3749-477B-8BED-3A2EB7D40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E5AF66-190C-44E5-9F19-C0886D9D6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D2710A-1432-46F7-BF7C-05984CB17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C52DF6-4B30-43F9-8B61-44B2065A6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CFF2DB-98EF-4E02-8C7B-34FF77C32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949C71-12D6-4ED5-AE35-3E06BB206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6DCE24-D9CD-4BAC-A540-92127062F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832AC7-31A8-4315-8DA5-9C0E10151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B07FEA-CE0F-4091-870A-0F08193AA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04AA23-8830-45C6-BA98-0369B2526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5D0E-B42F-4D44-9614-09ACA68C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93B07C-27B7-4732-9ADD-0F7912ABC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1EBAF0-ACAC-4EA2-AC5F-6BD8CD43D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ACCAE8-8E00-40BB-BA58-445DAF4A3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A51A7B-D7A3-4CF9-A1D5-85C743BBE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B0F23D-C75B-4E97-9521-B45392C45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6FCD77-B06A-4592-9E4E-84ABBB8B8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C1B786-8D28-4073-A262-944D17123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3A50C6-A78E-4ED0-BCC4-1CF51D135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C9543C-9832-4767-A1E7-C2151EFF1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E8CC34-2D18-4E87-AF6E-18706BE86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ABE2-C986-4DB5-BF55-3C3EF00DD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C8A22F-90DF-4984-978B-336B40C85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34332D-E50C-4A97-9331-8099D0BCF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06254E-DE1C-44EA-8F5D-2AE5CB74F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5571D3-4838-43B7-B47D-7455DFC6C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4BA06C-9E16-410E-A751-29336D8BE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0710E6-A6FD-4EF2-B5F6-363AE41D6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4DB8E3-820C-492F-832F-A5EDD8543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FDAE04-25CA-43E8-A0F3-80DC88238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2A20E6-BCD2-4667-9FE5-B4B283F56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C251EE-915A-4010-904C-3CDB8847D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8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1DE8E-D480-4AEB-9E61-5C796B337110}" type="slidenum">
              <a:rPr b="0" lang="es-E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8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7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9 Rectángulo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10 Rectángulo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11 Rectángulo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8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9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30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E1D94-5537-4C66-8AA1-B9D3FC3BF646}" type="slidenum">
              <a:rPr b="0" lang="es-E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8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7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dt" idx="3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ftr" idx="3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sldNum" idx="3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78982-0177-4A17-9C0F-CD386625A973}" type="slidenum">
              <a:rPr b="0" lang="es-E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8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7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dt" idx="3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ftr" idx="3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 type="sldNum" idx="3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958C8-2AD0-467E-AC11-F61BF625BAAA}" type="slidenum">
              <a:rPr b="0" lang="es-E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9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10 Rectángulo redondeado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11 Rectángulo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12 Rectángulo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14 Rectángulo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EC4A8-5F7E-45EA-81DF-5430EA096E08}" type="slidenum">
              <a:rPr b="0" lang="es-E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8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7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F5F4A-C9A1-43A0-AE98-A4797B98389C}" type="slidenum">
              <a:rPr b="0" lang="es-E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9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10 Rectángulo redondeado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134" name="10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11 Rectángulo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12 Rectángulo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14 Rectángulo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481B5-AD7C-465A-901E-01E5814A0181}" type="slidenum">
              <a:rPr b="0" lang="es-E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8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7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0721C-4C5D-4C1B-8630-30B05EC7E864}" type="slidenum">
              <a:rPr b="0" lang="es-E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8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7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785CE-4A7D-47B1-8425-EABE8041159E}" type="slidenum">
              <a:rPr b="0" lang="es-E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8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7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9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20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21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EF2CA-9107-476A-AAC9-BBDF478E11CF}" type="slidenum">
              <a:rPr b="0" lang="es-E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8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7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5EFFF-87AE-474F-997F-D43FF1E18341}" type="slidenum">
              <a:rPr b="0" lang="es-E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8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7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9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10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5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26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27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4526C-F90F-408B-907A-5BA6854A23E6}" type="slidenum">
              <a:rPr b="0" lang="es-E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696464"/>
                </a:solidFill>
                <a:latin typeface="Perpetua"/>
              </a:rPr>
              <a:t>4 de Junio de 2010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696464"/>
                </a:solidFill>
                <a:latin typeface="Perpetua"/>
              </a:rPr>
              <a:t>Inspección Departamental de Educación Inicial y Primaria de Tacuarembó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Franklin Gothic Book"/>
              </a:rPr>
              <a:t>Junta de Directores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5" name=""/>
          <p:cNvGraphicFramePr/>
          <p:nvPr/>
        </p:nvGraphicFramePr>
        <p:xfrm>
          <a:off x="684360" y="836640"/>
          <a:ext cx="7920000" cy="5708520"/>
        </p:xfrm>
        <a:graphic>
          <a:graphicData uri="http://schemas.openxmlformats.org/drawingml/2006/table">
            <a:tbl>
              <a:tblPr/>
              <a:tblGrid>
                <a:gridCol w="2158920"/>
                <a:gridCol w="5761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spec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º año</a:t>
                      </a: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presentacio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presiones decimales periódicas y no periódic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rd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nsidad (usa el orden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alor Posic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presiones decimales periódicas y no periódic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gularidad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presiones decimales periódicas y no periódica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osición/ descomposi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presiones decimales periódicas y no periódicas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itivas y multiplicativ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722160" y="95220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696464"/>
                </a:solidFill>
                <a:latin typeface="Franklin Gothic Book"/>
              </a:rPr>
              <a:t>Aspectos de Numeración Racional</a:t>
            </a:r>
            <a:endParaRPr b="0" lang="en-US" sz="4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722160" y="2547720"/>
            <a:ext cx="7772400" cy="133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898989"/>
                </a:solidFill>
                <a:latin typeface="Perpetua"/>
              </a:rPr>
              <a:t>Vinculación con el nuevo programa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16 Rectángulo"/>
          <p:cNvSpPr/>
          <p:nvPr/>
        </p:nvSpPr>
        <p:spPr>
          <a:xfrm>
            <a:off x="2643120" y="857160"/>
            <a:ext cx="3214800" cy="857520"/>
          </a:xfrm>
          <a:prstGeom prst="rect">
            <a:avLst/>
          </a:prstGeom>
          <a:solidFill>
            <a:srgbClr val="ffffff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3 CuadroTexto"/>
          <p:cNvSpPr/>
          <p:nvPr/>
        </p:nvSpPr>
        <p:spPr>
          <a:xfrm>
            <a:off x="2819520" y="1066680"/>
            <a:ext cx="2971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CONCEPTO DE NÚMERO R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4 Flecha abajo"/>
          <p:cNvSpPr/>
          <p:nvPr/>
        </p:nvSpPr>
        <p:spPr>
          <a:xfrm flipH="1">
            <a:off x="2571840" y="1857240"/>
            <a:ext cx="285840" cy="128592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5 CuadroTexto"/>
          <p:cNvSpPr/>
          <p:nvPr/>
        </p:nvSpPr>
        <p:spPr>
          <a:xfrm>
            <a:off x="1371600" y="3581280"/>
            <a:ext cx="21430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CAMPOS NUMÉR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6 Flecha abajo"/>
          <p:cNvSpPr/>
          <p:nvPr/>
        </p:nvSpPr>
        <p:spPr>
          <a:xfrm>
            <a:off x="4929120" y="1785960"/>
            <a:ext cx="214560" cy="1357200"/>
          </a:xfrm>
          <a:prstGeom prst="downArrow">
            <a:avLst>
              <a:gd name="adj1" fmla="val 50000"/>
              <a:gd name="adj2" fmla="val 4993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7 CuadroTexto"/>
          <p:cNvSpPr/>
          <p:nvPr/>
        </p:nvSpPr>
        <p:spPr>
          <a:xfrm>
            <a:off x="4500720" y="342900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ASPEC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8 Abrir llave"/>
          <p:cNvSpPr/>
          <p:nvPr/>
        </p:nvSpPr>
        <p:spPr>
          <a:xfrm>
            <a:off x="6072120" y="2928960"/>
            <a:ext cx="142920" cy="1928880"/>
          </a:xfrm>
          <a:custGeom>
            <a:avLst/>
            <a:gdLst>
              <a:gd name="textAreaLeft" fmla="*/ 91440 w 142920"/>
              <a:gd name="textAreaRight" fmla="*/ 143280 w 142920"/>
              <a:gd name="textAreaTop" fmla="*/ 3600 h 1928880"/>
              <a:gd name="textAreaBottom" fmla="*/ 192528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7"/>
                  <a:pt x="10800" y="133"/>
                </a:cubicBezTo>
                <a:lnTo>
                  <a:pt x="10800" y="10667"/>
                </a:lnTo>
                <a:cubicBezTo>
                  <a:pt x="10800" y="10734"/>
                  <a:pt x="5400" y="10800"/>
                  <a:pt x="0" y="10800"/>
                </a:cubicBezTo>
                <a:cubicBezTo>
                  <a:pt x="5400" y="10800"/>
                  <a:pt x="10800" y="10867"/>
                  <a:pt x="10800" y="10933"/>
                </a:cubicBezTo>
                <a:lnTo>
                  <a:pt x="10800" y="21467"/>
                </a:lnTo>
                <a:cubicBezTo>
                  <a:pt x="10800" y="2153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9 CuadroTexto"/>
          <p:cNvSpPr/>
          <p:nvPr/>
        </p:nvSpPr>
        <p:spPr>
          <a:xfrm>
            <a:off x="6215040" y="264312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REPRESENTA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10 CuadroTexto"/>
          <p:cNvSpPr/>
          <p:nvPr/>
        </p:nvSpPr>
        <p:spPr>
          <a:xfrm>
            <a:off x="6286680" y="2928960"/>
            <a:ext cx="22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O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11 CuadroTexto"/>
          <p:cNvSpPr/>
          <p:nvPr/>
        </p:nvSpPr>
        <p:spPr>
          <a:xfrm>
            <a:off x="6286680" y="3214800"/>
            <a:ext cx="20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VALOR POSI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12 CuadroTexto"/>
          <p:cNvSpPr/>
          <p:nvPr/>
        </p:nvSpPr>
        <p:spPr>
          <a:xfrm>
            <a:off x="6357960" y="385776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REGULAR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13 CuadroTexto"/>
          <p:cNvSpPr/>
          <p:nvPr/>
        </p:nvSpPr>
        <p:spPr>
          <a:xfrm>
            <a:off x="6286680" y="4357800"/>
            <a:ext cx="242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COMPOSICIÓN Y DESCOMPOS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371600" y="3657600"/>
            <a:ext cx="140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066680" y="3505320"/>
            <a:ext cx="2133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13 Rectángulo"/>
          <p:cNvSpPr/>
          <p:nvPr/>
        </p:nvSpPr>
        <p:spPr>
          <a:xfrm>
            <a:off x="1500120" y="1428840"/>
            <a:ext cx="5500800" cy="357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855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Perpetu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11 Rectángulo"/>
          <p:cNvSpPr/>
          <p:nvPr/>
        </p:nvSpPr>
        <p:spPr>
          <a:xfrm>
            <a:off x="2071800" y="1928880"/>
            <a:ext cx="3786120" cy="228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855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Perpetu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10 Rectángulo"/>
          <p:cNvSpPr/>
          <p:nvPr/>
        </p:nvSpPr>
        <p:spPr>
          <a:xfrm>
            <a:off x="2643120" y="2214720"/>
            <a:ext cx="2786040" cy="1428480"/>
          </a:xfrm>
          <a:prstGeom prst="rect">
            <a:avLst/>
          </a:prstGeom>
          <a:solidFill>
            <a:srgbClr val="ffffff"/>
          </a:solidFill>
          <a:ln w="12600">
            <a:solidFill>
              <a:srgbClr val="855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Perpetua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9 Rectángulo"/>
          <p:cNvSpPr/>
          <p:nvPr/>
        </p:nvSpPr>
        <p:spPr>
          <a:xfrm>
            <a:off x="3143160" y="2643120"/>
            <a:ext cx="207180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855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Perpetu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12 Rectángulo"/>
          <p:cNvSpPr/>
          <p:nvPr/>
        </p:nvSpPr>
        <p:spPr>
          <a:xfrm>
            <a:off x="5857920" y="1928880"/>
            <a:ext cx="571320" cy="228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855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Perpetu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14 CuadroTexto"/>
          <p:cNvSpPr/>
          <p:nvPr/>
        </p:nvSpPr>
        <p:spPr>
          <a:xfrm>
            <a:off x="1071720" y="714240"/>
            <a:ext cx="664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                 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CAMPOS NUMÉR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0" name=""/>
          <p:cNvGraphicFramePr/>
          <p:nvPr/>
        </p:nvGraphicFramePr>
        <p:xfrm>
          <a:off x="285840" y="214200"/>
          <a:ext cx="8103960" cy="5829480"/>
        </p:xfrm>
        <a:graphic>
          <a:graphicData uri="http://schemas.openxmlformats.org/drawingml/2006/table">
            <a:tbl>
              <a:tblPr/>
              <a:tblGrid>
                <a:gridCol w="2076480"/>
                <a:gridCol w="6027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spec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er. a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1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presentacio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otación fraccionari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a representación gráfica de fraccion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rd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as fracciones menores que la unida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6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alor Posic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gularidad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osición/ descomposi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a unidad en medios y cuarto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1" name=""/>
          <p:cNvGraphicFramePr/>
          <p:nvPr/>
        </p:nvGraphicFramePr>
        <p:xfrm>
          <a:off x="642960" y="573120"/>
          <a:ext cx="7929720" cy="6254640"/>
        </p:xfrm>
        <a:graphic>
          <a:graphicData uri="http://schemas.openxmlformats.org/drawingml/2006/table">
            <a:tbl>
              <a:tblPr/>
              <a:tblGrid>
                <a:gridCol w="1981080"/>
                <a:gridCol w="59486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spec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º a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7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presentacio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racciones como punto de una rect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rd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a comparación y ordenación de fracciones : ½-1/4 – 1/8-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a relación de equivalencia de fracciones conocidas. F &gt;1 y   F &lt;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3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alor Posic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gularidad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6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osición/ descomposi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a unidad con medios,cuartos,tercios y quinto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2" name=""/>
          <p:cNvGraphicFramePr/>
          <p:nvPr/>
        </p:nvGraphicFramePr>
        <p:xfrm>
          <a:off x="571680" y="476280"/>
          <a:ext cx="8103960" cy="6327720"/>
        </p:xfrm>
        <a:graphic>
          <a:graphicData uri="http://schemas.openxmlformats.org/drawingml/2006/table">
            <a:tbl>
              <a:tblPr/>
              <a:tblGrid>
                <a:gridCol w="2023920"/>
                <a:gridCol w="60800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spec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º a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0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presentacio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otación fraccionaria y decimal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lación de equivalencia entre exp.dec. y entre F y decimal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&gt;1 y F&lt;1 como puntos de la rect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rd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racciones decimale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&gt;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&lt;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=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5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alor Posic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 decimal: décimos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analizar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gularidad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 decimal: décimo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osición/ descomposi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 decimal: décimo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ditiv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ultiplicativ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3" name=""/>
          <p:cNvGraphicFramePr/>
          <p:nvPr/>
        </p:nvGraphicFramePr>
        <p:xfrm>
          <a:off x="684360" y="836640"/>
          <a:ext cx="7920000" cy="5411880"/>
        </p:xfrm>
        <a:graphic>
          <a:graphicData uri="http://schemas.openxmlformats.org/drawingml/2006/table">
            <a:tbl>
              <a:tblPr/>
              <a:tblGrid>
                <a:gridCol w="2158920"/>
                <a:gridCol w="5761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spec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º año</a:t>
                      </a: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presentacio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º mixt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presentación en la rect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rd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ervalo entre FF de igual y distinto denominador.</a:t>
                      </a: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medios, cuartos, octavos, tercios, sextos, novenos, quintos…)</a:t>
                      </a: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alor Posic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 decimal: centésimo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gularidad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 decimal: centésimo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9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osición/ descomposi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 decimal: centésim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itivaMultiplicativ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4" name=""/>
          <p:cNvGraphicFramePr/>
          <p:nvPr/>
        </p:nvGraphicFramePr>
        <p:xfrm>
          <a:off x="684360" y="836640"/>
          <a:ext cx="7920000" cy="5392800"/>
        </p:xfrm>
        <a:graphic>
          <a:graphicData uri="http://schemas.openxmlformats.org/drawingml/2006/table">
            <a:tbl>
              <a:tblPr/>
              <a:tblGrid>
                <a:gridCol w="2158920"/>
                <a:gridCol w="5761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spec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º año</a:t>
                      </a: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presentacio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p. Decimal, fraccionaria y mixt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feren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presentaciones gráficas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rd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 de igual y distinto numerador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alor Posic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 decimal: milésimo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gularidad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 decimal: milésimo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osición/ descomposi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 decimal: milésim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itiva y multiplicativ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itiv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ultiplicativ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4T20:30:06Z</dcterms:created>
  <dc:creator>cliente</dc:creator>
  <dc:description/>
  <dc:language>en-US</dc:language>
  <cp:lastModifiedBy>Paty</cp:lastModifiedBy>
  <dcterms:modified xsi:type="dcterms:W3CDTF">2010-06-06T00:10:25Z</dcterms:modified>
  <cp:revision>4</cp:revision>
  <dc:subject/>
  <dc:title>Aspectos de Numeración Racional</dc:title>
</cp:coreProperties>
</file>