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dt" idx="37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MX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s-MX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sldImg"/>
          </p:nvPr>
        </p:nvSpPr>
        <p:spPr>
          <a:xfrm>
            <a:off x="939600" y="750960"/>
            <a:ext cx="5010120" cy="375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ftr" idx="38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 type="sldNum" idx="39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MX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D0095F-156E-42A6-BB28-DA248635A4D0}" type="slidenum">
              <a:rPr b="0" lang="es-MX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3 Marcador de número de diapositiva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EF89FB-E6C1-4ABC-9A43-0CA961C64916}" type="slidenum">
              <a:rPr b="0" lang="es-MX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3 Marcador de número de diapositiva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7AF73B-755C-4973-B57F-1316AB9D4C74}" type="slidenum">
              <a:rPr b="0" lang="es-MX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3 Marcador de número de diapositiva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DD05CE-C7C7-4D59-905B-8B6EC37B35A6}" type="slidenum">
              <a:rPr b="0" lang="es-MX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3 Marcador de número de diapositiva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8084EE-8789-4164-BE08-1F9D1F3028D1}" type="slidenum">
              <a:rPr b="0" lang="es-MX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3 Marcador de número de diapositiva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BEA166-DB4B-4C71-8A6C-8EEFD6B3D29E}" type="slidenum">
              <a:rPr b="0" lang="es-MX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3 Marcador de número de diapositiva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FD1241-B883-4ECA-8429-43C43AE28563}" type="slidenum">
              <a:rPr b="0" lang="es-MX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3 Marcador de número de diapositiva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AE2BBC-570F-49C8-9083-53EB6B24B344}" type="slidenum">
              <a:rPr b="0" lang="es-MX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3 Marcador de número de diapositiva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B3411A-45DB-4498-A02A-2D1703CABA6E}" type="slidenum">
              <a:rPr b="0" lang="es-MX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3 Marcador de número de diapositiva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7A57A1-63F8-4955-A206-308F73EE0566}" type="slidenum">
              <a:rPr b="0" lang="es-MX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3 Marcador de número de diapositiva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731A9C-7077-469F-A6A7-0DE25405FEC4}" type="slidenum">
              <a:rPr b="0" lang="es-MX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EABD-4BA5-4185-A53E-DC3466C3C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5096-82F1-48B8-9759-A1C308DD7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F8A107-B58F-449F-9462-919D3BAE7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4850FF-F8C6-4403-A1E5-1018E93F4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25C7DC-ECF6-4C0B-9C70-12F8C3F54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D12FE9-0F14-4EAA-8C90-1CF687CC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DB052D-D3E0-4729-AB7A-D0B15759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D7911C-866F-4B9C-8B4C-DC3A26F7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46E494-D629-4A5D-94DB-15D48661C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6663C3-F3A5-4B49-AC76-E3B9E9E08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5AC3A1-AC0A-48A5-AFCD-005F859BC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969CA4-5B3D-4422-B132-46117FA31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7007-8020-4992-87BC-4136BB50E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403C6D-F7F5-46C8-8206-A885D3993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2FB558-8C2E-44D6-B4F9-79A58A125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2A34CE-3E27-4B59-9041-CF669CBB9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5863C1-2BC1-44E1-BE36-C3F4CFEA8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90833A-A1B8-4279-8C1D-319A46AEE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F61330-3EBA-475C-B22A-A75E5D27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B5D4EF-A635-4FB9-9972-7A7CCCD4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1A0273-CD80-4BFE-814B-4376EA9B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3390FE-A63F-4B48-A147-FE10D8A49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13F983-C729-4B30-AF08-BDE9B6BE3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459E-8C4C-45C0-97C3-4BEDF1323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C9A2D6-4D45-4F1F-9B57-5793707F3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CFE885-1B9F-4F25-8850-3D401E7F3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E2E76A-D022-47BC-BA61-DB9DB2525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AE23BD-7E1E-4EF0-9F34-CECF2F525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3986D4-5B8A-43FA-A239-9883220E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F8FE97-7AA8-4230-909E-E8501AD80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C72EB3-4FD9-4E03-BC10-17AF96344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5849A9-330A-4312-9175-0B1EF48A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A66C15-CDB0-4285-80A6-B1FDA35C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F25FC3-87D4-48BA-8CBA-CBEE5B2D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E6333-A620-4398-BD6B-FE2B30668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A16B77-16B0-4EAE-B752-68DCA73F4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0E3FDE-44E8-4337-9B90-C4F9913FA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2BF97B-186E-408C-8EF5-E21D5E57B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421048-4A8A-40CC-87B6-F82775286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96E0E5-44F6-4A0A-AD3F-77B5183DF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A79683-96BE-466B-89D7-77694C364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46D5A1-94FE-44AE-8D32-836EE63AF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B1947A-5F4E-4288-8B25-CDB8D2BCF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C8DBBB-7221-4DA2-8648-8AEE4EFF2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1CA8B2-2E6A-4FF1-92A5-2E3F60C7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EF368-49BC-4464-A831-9A8A29F79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87A206-15BE-4C39-991E-47765531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25CAB9-FBEE-4A8A-AE65-E452ADA3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32DECF-0846-4F61-8BF2-7E1ADE2C7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C4FA27-2633-4794-A658-5672B8EC1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5B8069-AB26-42EF-A078-60DD18538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3F7F3-15AC-48CB-BED3-9846685AD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99E92-0C54-49C5-87C1-F29351164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AF96B-C76F-4C1E-B3F8-32C2AD708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D4CFD-88E2-4064-8201-BE22B87E9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01416-532B-469F-ABB4-E3579E8C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90AF-6CDA-4D56-ABCC-037FBF089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A4264-62D0-4E9F-9A83-A939B4B7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9C3B3-D83E-47CB-A045-54BC221A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25933-A79C-4A1F-8FB6-2E9BF7F68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BB7B0-E49A-460E-81EE-3ECD1092F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1EFDC-FE00-4A4D-84D1-008C97156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4DA2C-7722-497D-83BF-F502C713A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7EDB5-56AD-4B53-8E5E-99A0C48A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3F77D-D4C4-43C1-ABF5-69DAA31F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C3E0E-0911-4CCE-A02A-59E227A7F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72A40-F9B1-4950-BCBC-2781D3624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1500-7C4C-4128-86E8-C7338514E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D583A-7FAF-4B95-8E15-0C73E3EEE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06E39-CD39-4DE5-8CB2-D4314A9A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AE009-348B-493A-8E93-BE05C296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4C223-9425-4072-A376-D46BF605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BF257-08DB-4CC6-BAEB-E47A1AF7A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6837D-70CC-4698-BF6B-56AC17A83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58FC3-FD91-434F-8EE0-7F7B44A66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C49F1-E432-4F0A-9958-640A2A096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A5AE6-996A-4121-A846-DD60673E4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C630D-2CA5-4977-8192-E0D56940A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2360-64C7-4E98-9C90-45D0D5FED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4F0F3-9261-44F9-9D11-F3345F467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48686-B5DA-4CAA-8013-177744724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DF483-9723-4C08-A094-EFF515E90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84E5E-F161-4138-9D5A-1A301EB0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53465-E1A9-433A-853E-F18F9556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33473-2E9C-4F92-868F-5A1C3192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9B189-807C-4BB9-9E6E-58C4A578D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695F8-911D-4283-ADC7-DA3E8CE6F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09DD7-7806-4185-914A-B364AA257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87717-0432-40F7-A10F-B7004244A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A62C-3737-482B-A9A4-8B3E9C51B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1B5F7-32AD-475C-9B42-4CC1B25DF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F9F8D-D6B6-426A-A7B1-F40CBA25D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C505A-9929-4860-9778-650F02518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ADDB8-957F-4439-85F0-C14D7DA9F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68DD3-4422-4A38-AB99-F506FA42E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F397D-4D68-4CF0-860C-A7F3A59C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973D4-216F-42C1-998F-FC393F7E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2ABD7-1B64-4853-A837-7B3BC94F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F91FF-5167-4DB4-B3E4-649FAEE48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05482-43C3-4CEF-BFAF-BBDBCCAB8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DEB2-FE4B-4EED-B227-5C43D3856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6B947-1556-4389-B2AD-1F6A12D47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D7D6E-FCB3-4AFE-B522-B66D3F113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0CEC3-B2C6-4349-A48F-61C21DDE8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034687-79E3-45AE-BEE9-1D4CFA8FB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8D74C-A76D-4C52-84D2-CBD617B49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13DFE-97EA-4A69-9D93-1F2B2DEAC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93A8D-769C-4B0F-A229-CE7BB60D7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9F5B2C-00A5-4F15-9FE6-BB6F2369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9F791-F257-4B0F-9525-125AE78D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3C304-F403-43CF-98A0-CA7ADDF1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822D-464C-47FA-BE99-DB2552F2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050BB-A6D0-4AEB-BB1F-407BBB956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456B2B-0639-4648-85CF-354233379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E40C8-725D-452F-B65A-654753CA2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F31C1D-19CF-4BD7-8DDC-85097CC8B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DB09E-76E9-4139-A654-24CAA442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E6E6C-63B3-4597-8FDA-08C4E7F7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90C06-C233-4908-AD13-80A4A909B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BBC6F-243E-4701-9777-39B1771F4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A18C68-7D3E-4DB2-9971-AC98604D9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6FBE4-BCB5-411C-A0F8-C1B20F55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D4BC-FBBB-4D07-AADC-73CDBAE8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D834E-1243-4B2B-8FCD-E7F3B070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8CFF5-20CB-40C8-A8C6-AACCD2C8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491664-4815-44DD-93B0-FA84412B1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CF381-214B-4691-8D9F-F774CA3B5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3E14DD-016E-4902-80CC-4BA39B5B8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3708E9-C0A5-4A00-B5FE-C640746C6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18548-4EFD-4D71-BA12-F182681FA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291231-7689-4122-81E6-D726D8E9E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FDB99-6D41-473A-A20F-9906B3235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682D62-8D88-4C94-B32B-DEBB9C9A9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0348-C5F5-4A54-A7FB-0695F432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E93EEB-A651-405E-98A9-5E0F28665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A910EA-9D54-436C-9EA0-49572AD9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AB261-DF88-4468-9C3B-FB7E0BE2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D54C09-A88C-499A-80B0-F1C11B93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13179F-A184-42FE-B7B0-8F05BF63A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F8993B-13FB-4200-A053-5806B7B62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D486B-CF72-4119-86A9-276520530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7E4126-D817-4EFC-812B-0731691CE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AB3E56-BE0C-4361-9240-E18F9153F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8875EA-29EF-4924-9431-60D1428CC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C0606-026C-440F-89D2-6511D27A1EE0}" type="slidenum">
              <a:rPr b="0" lang="es-E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9 Rectángulo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10 Rectángulo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11 Rectángulo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9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30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72D6F-A8C4-4B71-A024-D3B8281954F2}" type="slidenum">
              <a:rPr b="0" lang="es-E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3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3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3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05E0-F7D8-4236-9B5E-288FC39C87E9}" type="slidenum">
              <a:rPr b="0" lang="es-E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3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3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3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2A739-0A9A-45FF-A928-30AAC9E74315}" type="slidenum">
              <a:rPr b="0" lang="es-E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9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0 Rectángulo redondeado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11 Rectángulo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12 Rectángulo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14 Rectángulo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9D9AF-4B33-44BD-9CEF-05F1F68A5D80}" type="slidenum">
              <a:rPr b="0" lang="es-E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C61B9-436D-4193-8FAC-E9EC196540A9}" type="slidenum">
              <a:rPr b="0" lang="es-E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9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10 Rectángulo redondeado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134" name="10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11 Rectángulo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12 Rectángulo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14 Rectángulo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507C2-BC70-4323-8CB4-646653D1CF5E}" type="slidenum">
              <a:rPr b="0" lang="es-E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31DAE-6530-47A1-BD87-A1F791C0DD24}" type="slidenum">
              <a:rPr b="0" lang="es-E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58CDB-9684-4F5F-B7FE-D4F3C07330F3}" type="slidenum">
              <a:rPr b="0" lang="es-E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23A58-C3CD-4844-846B-66EC749FE893}" type="slidenum">
              <a:rPr b="0" lang="es-E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DB78A-6E08-48BD-A239-14D6491C04AF}" type="slidenum">
              <a:rPr b="0" lang="es-E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9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10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7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C4AFF-20C9-455D-8C31-B45F0D8CFC78}" type="slidenum">
              <a:rPr b="0" lang="es-E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696464"/>
                </a:solidFill>
                <a:latin typeface="Perpetua"/>
              </a:rPr>
              <a:t>4 de Junio de 2010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696464"/>
                </a:solidFill>
                <a:latin typeface="Perpetua"/>
              </a:rPr>
              <a:t>Inspección Departamental de Educación Inicial y Primaria de Tacuarembó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Franklin Gothic Book"/>
              </a:rPr>
              <a:t>Junta de Directores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5" name=""/>
          <p:cNvGraphicFramePr/>
          <p:nvPr/>
        </p:nvGraphicFramePr>
        <p:xfrm>
          <a:off x="684360" y="836640"/>
          <a:ext cx="7920000" cy="5708520"/>
        </p:xfrm>
        <a:graphic>
          <a:graphicData uri="http://schemas.openxmlformats.org/drawingml/2006/table">
            <a:tbl>
              <a:tblPr/>
              <a:tblGrid>
                <a:gridCol w="2158920"/>
                <a:gridCol w="5761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spec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º año</a:t>
                      </a: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presentaci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resiones decimales periódicas y no periódic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rd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nsidad (usa el orden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alor Posi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resiones decimales periódicas y no periódic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ular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resiones decimales periódicas y no periódica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osición/ descomposi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resiones decimales periódicas y no periódicas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itivas y multiplicativ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722160" y="95220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696464"/>
                </a:solidFill>
                <a:latin typeface="Franklin Gothic Book"/>
              </a:rPr>
              <a:t>Aspectos de Numeración Racional</a:t>
            </a:r>
            <a:endParaRPr b="0" lang="en-US" sz="4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722160" y="2547720"/>
            <a:ext cx="7772400" cy="13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98989"/>
                </a:solidFill>
                <a:latin typeface="Perpetua"/>
              </a:rPr>
              <a:t>Vinculación con el nuevo program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16 Rectángulo"/>
          <p:cNvSpPr/>
          <p:nvPr/>
        </p:nvSpPr>
        <p:spPr>
          <a:xfrm>
            <a:off x="2643120" y="857160"/>
            <a:ext cx="3214800" cy="857520"/>
          </a:xfrm>
          <a:prstGeom prst="rect">
            <a:avLst/>
          </a:prstGeom>
          <a:solidFill>
            <a:srgbClr val="ffffff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3 CuadroTexto"/>
          <p:cNvSpPr/>
          <p:nvPr/>
        </p:nvSpPr>
        <p:spPr>
          <a:xfrm>
            <a:off x="2819520" y="1066680"/>
            <a:ext cx="2971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CONCEPTO DE NÚMERO R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4 Flecha abajo"/>
          <p:cNvSpPr/>
          <p:nvPr/>
        </p:nvSpPr>
        <p:spPr>
          <a:xfrm flipH="1">
            <a:off x="2571840" y="1857240"/>
            <a:ext cx="285840" cy="128592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5 CuadroTexto"/>
          <p:cNvSpPr/>
          <p:nvPr/>
        </p:nvSpPr>
        <p:spPr>
          <a:xfrm>
            <a:off x="1371600" y="3581280"/>
            <a:ext cx="2143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CAMPOS NUMÉ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6 Flecha abajo"/>
          <p:cNvSpPr/>
          <p:nvPr/>
        </p:nvSpPr>
        <p:spPr>
          <a:xfrm>
            <a:off x="4929120" y="1785960"/>
            <a:ext cx="214560" cy="1357200"/>
          </a:xfrm>
          <a:prstGeom prst="downArrow">
            <a:avLst>
              <a:gd name="adj1" fmla="val 50000"/>
              <a:gd name="adj2" fmla="val 4993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7 CuadroTexto"/>
          <p:cNvSpPr/>
          <p:nvPr/>
        </p:nvSpPr>
        <p:spPr>
          <a:xfrm>
            <a:off x="4500720" y="342900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ASPE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8 Abrir llave"/>
          <p:cNvSpPr/>
          <p:nvPr/>
        </p:nvSpPr>
        <p:spPr>
          <a:xfrm>
            <a:off x="6072120" y="2928960"/>
            <a:ext cx="142920" cy="192888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1928880"/>
              <a:gd name="textAreaBottom" fmla="*/ 192528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7"/>
                  <a:pt x="10800" y="133"/>
                </a:cubicBezTo>
                <a:lnTo>
                  <a:pt x="10800" y="10667"/>
                </a:lnTo>
                <a:cubicBezTo>
                  <a:pt x="10800" y="10734"/>
                  <a:pt x="5400" y="10800"/>
                  <a:pt x="0" y="10800"/>
                </a:cubicBezTo>
                <a:cubicBezTo>
                  <a:pt x="5400" y="10800"/>
                  <a:pt x="10800" y="10867"/>
                  <a:pt x="10800" y="10933"/>
                </a:cubicBezTo>
                <a:lnTo>
                  <a:pt x="10800" y="21467"/>
                </a:lnTo>
                <a:cubicBezTo>
                  <a:pt x="10800" y="2153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9 CuadroTexto"/>
          <p:cNvSpPr/>
          <p:nvPr/>
        </p:nvSpPr>
        <p:spPr>
          <a:xfrm>
            <a:off x="6215040" y="264312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REPRESENT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10 CuadroTexto"/>
          <p:cNvSpPr/>
          <p:nvPr/>
        </p:nvSpPr>
        <p:spPr>
          <a:xfrm>
            <a:off x="6286680" y="2928960"/>
            <a:ext cx="22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O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11 CuadroTexto"/>
          <p:cNvSpPr/>
          <p:nvPr/>
        </p:nvSpPr>
        <p:spPr>
          <a:xfrm>
            <a:off x="6286680" y="3214800"/>
            <a:ext cx="20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VALOR POSI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12 CuadroTexto"/>
          <p:cNvSpPr/>
          <p:nvPr/>
        </p:nvSpPr>
        <p:spPr>
          <a:xfrm>
            <a:off x="6357960" y="385776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REGULAR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13 CuadroTexto"/>
          <p:cNvSpPr/>
          <p:nvPr/>
        </p:nvSpPr>
        <p:spPr>
          <a:xfrm>
            <a:off x="6286680" y="4357800"/>
            <a:ext cx="242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COMPOSICIÓN Y DESCOMPO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371600" y="3657600"/>
            <a:ext cx="140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066680" y="3505320"/>
            <a:ext cx="2133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13 Rectángulo"/>
          <p:cNvSpPr/>
          <p:nvPr/>
        </p:nvSpPr>
        <p:spPr>
          <a:xfrm>
            <a:off x="1500120" y="1428840"/>
            <a:ext cx="5500800" cy="357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855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Perpetu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11 Rectángulo"/>
          <p:cNvSpPr/>
          <p:nvPr/>
        </p:nvSpPr>
        <p:spPr>
          <a:xfrm>
            <a:off x="2071800" y="1928880"/>
            <a:ext cx="3786120" cy="228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855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Perpetu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10 Rectángulo"/>
          <p:cNvSpPr/>
          <p:nvPr/>
        </p:nvSpPr>
        <p:spPr>
          <a:xfrm>
            <a:off x="2643120" y="2214720"/>
            <a:ext cx="2786040" cy="1428480"/>
          </a:xfrm>
          <a:prstGeom prst="rect">
            <a:avLst/>
          </a:prstGeom>
          <a:solidFill>
            <a:srgbClr val="ffffff"/>
          </a:solidFill>
          <a:ln w="12600">
            <a:solidFill>
              <a:srgbClr val="855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Perpetua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9 Rectángulo"/>
          <p:cNvSpPr/>
          <p:nvPr/>
        </p:nvSpPr>
        <p:spPr>
          <a:xfrm>
            <a:off x="3143160" y="2643120"/>
            <a:ext cx="20718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855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Perpetu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12 Rectángulo"/>
          <p:cNvSpPr/>
          <p:nvPr/>
        </p:nvSpPr>
        <p:spPr>
          <a:xfrm>
            <a:off x="5857920" y="1928880"/>
            <a:ext cx="571320" cy="228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855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Perpetu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14 CuadroTexto"/>
          <p:cNvSpPr/>
          <p:nvPr/>
        </p:nvSpPr>
        <p:spPr>
          <a:xfrm>
            <a:off x="1071720" y="714240"/>
            <a:ext cx="664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               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CAMPOS NUMÉ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0" name=""/>
          <p:cNvGraphicFramePr/>
          <p:nvPr/>
        </p:nvGraphicFramePr>
        <p:xfrm>
          <a:off x="285840" y="214200"/>
          <a:ext cx="8103960" cy="5829480"/>
        </p:xfrm>
        <a:graphic>
          <a:graphicData uri="http://schemas.openxmlformats.org/drawingml/2006/table">
            <a:tbl>
              <a:tblPr/>
              <a:tblGrid>
                <a:gridCol w="2076480"/>
                <a:gridCol w="6027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spec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er. a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1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presentaci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tación fraccionari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a representación gráfica de fraccion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rd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as fracciones menores que la unida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alor Posi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ular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osición/ descomposi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a unidad en medios y cuarto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1" name=""/>
          <p:cNvGraphicFramePr/>
          <p:nvPr/>
        </p:nvGraphicFramePr>
        <p:xfrm>
          <a:off x="642960" y="573120"/>
          <a:ext cx="7929720" cy="6254640"/>
        </p:xfrm>
        <a:graphic>
          <a:graphicData uri="http://schemas.openxmlformats.org/drawingml/2006/table">
            <a:tbl>
              <a:tblPr/>
              <a:tblGrid>
                <a:gridCol w="1981080"/>
                <a:gridCol w="59486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spec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º a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7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presentaci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racciones como punto de una rect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rd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a comparación y ordenación de fracciones : ½-1/4 – 1/8-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a relación de equivalencia de fracciones conocidas. F &gt;1 y   F &lt;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3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alor Posi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ular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6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osición/ descomposi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a unidad con medios,cuartos,tercios y quinto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2" name=""/>
          <p:cNvGraphicFramePr/>
          <p:nvPr/>
        </p:nvGraphicFramePr>
        <p:xfrm>
          <a:off x="571680" y="476280"/>
          <a:ext cx="8103960" cy="6327720"/>
        </p:xfrm>
        <a:graphic>
          <a:graphicData uri="http://schemas.openxmlformats.org/drawingml/2006/table">
            <a:tbl>
              <a:tblPr/>
              <a:tblGrid>
                <a:gridCol w="2023920"/>
                <a:gridCol w="6080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spec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º a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0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presentaci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tación fraccionaria y decim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lación de equivalencia entre exp.dec. y entre F y decimal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&gt;1 y F&lt;1 como puntos de la rect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rd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racciones decimal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&gt;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&lt;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=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5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alor Posi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 decimal: décimos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analizar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ular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 decimal: décimo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osición/ descomposi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 decimal: décimo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ditiv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ultiplicativ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3" name=""/>
          <p:cNvGraphicFramePr/>
          <p:nvPr/>
        </p:nvGraphicFramePr>
        <p:xfrm>
          <a:off x="684360" y="836640"/>
          <a:ext cx="7920000" cy="5411880"/>
        </p:xfrm>
        <a:graphic>
          <a:graphicData uri="http://schemas.openxmlformats.org/drawingml/2006/table">
            <a:tbl>
              <a:tblPr/>
              <a:tblGrid>
                <a:gridCol w="2158920"/>
                <a:gridCol w="5761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spec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º año</a:t>
                      </a: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presentaci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º mixt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presentación en la rect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rd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valo entre FF de igual y distinto denominador.</a:t>
                      </a: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medios, cuartos, octavos, tercios, sextos, novenos, quintos…)</a:t>
                      </a: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alor Posi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decimal: centésim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ular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decimal: centésim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9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osición/ descomposi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decimal: centésim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itivaMultiplicativ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4" name=""/>
          <p:cNvGraphicFramePr/>
          <p:nvPr/>
        </p:nvGraphicFramePr>
        <p:xfrm>
          <a:off x="684360" y="836640"/>
          <a:ext cx="7920000" cy="5392800"/>
        </p:xfrm>
        <a:graphic>
          <a:graphicData uri="http://schemas.openxmlformats.org/drawingml/2006/table">
            <a:tbl>
              <a:tblPr/>
              <a:tblGrid>
                <a:gridCol w="2158920"/>
                <a:gridCol w="5761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spec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º año</a:t>
                      </a: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presentaci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. Decimal, fraccionaria y mixt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feren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presentaciones gráficas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rd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de igual y distinto numerador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alor Posi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decimal: milésim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ular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decimal: milésim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osición/ descomposi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decimal: milésim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itiva y multiplicati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iti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ltiplicativ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20:30:06Z</dcterms:created>
  <dc:creator>cliente</dc:creator>
  <dc:description/>
  <dc:language>en-US</dc:language>
  <cp:lastModifiedBy>Paty</cp:lastModifiedBy>
  <dcterms:modified xsi:type="dcterms:W3CDTF">2010-06-06T00:10:25Z</dcterms:modified>
  <cp:revision>4</cp:revision>
  <dc:subject/>
  <dc:title>Aspectos de Numeración Racional</dc:title>
</cp:coreProperties>
</file>