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B73C8-7AC1-4929-BDE4-BD2D5053C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BBAE7-1DD9-48D6-AC58-AA889AB6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2DB01-4748-4D83-A9DE-79B66377C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F9F68-52B2-4BBF-9A3D-55B159391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7680-301C-4C0D-B834-27E9F502C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2E51-6E78-413D-ACDB-A4FD0833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4174-8868-4BD5-AAC2-7864EE6F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5C9D-0731-4DC2-9D92-5CE6ECE9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C12D-BA14-4606-A318-92398A3E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9B71-109F-4B8D-A4AA-1B48902B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79DA-8743-4E38-BB7B-A192C146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CAF22-FE84-4EAE-AAAA-DC2B4177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56B9-6FAC-4202-A1E2-24868F1B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8A2C-177C-4138-98B5-5147FA9D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B74FB-A43E-46BB-A424-5B382798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C416-31CC-4600-AEEA-78A404890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6E37-F081-4B46-A4AB-48D3591CB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C71FB-CE22-4A2B-8124-F1E8CC64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2C60A-8B6A-4E29-8047-06A9DFA9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DED92-31CC-4D0C-A10C-18D94F82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70CDC-B6E2-4A9E-BA6D-56073CD4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ED368-3CD7-4CCB-8A32-054A68AF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3E981-0698-45A3-9A1E-51B21400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E3D95-6490-428C-9D0A-4B2BEA03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F3B7-1FC2-4284-B38D-8EA7E6967E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CA5C-D6A7-41DA-96E4-34525F4F83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spectos de Numeración Racional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Vinculación con el nuevo program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sición/Descompos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9280" y="1981080"/>
          <a:ext cx="8713800" cy="4583160"/>
        </p:xfrm>
        <a:graphic>
          <a:graphicData uri="http://schemas.openxmlformats.org/drawingml/2006/table">
            <a:tbl>
              <a:tblPr/>
              <a:tblGrid>
                <a:gridCol w="2241720"/>
                <a:gridCol w="2421000"/>
                <a:gridCol w="2251080"/>
                <a:gridCol w="180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0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décimo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t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icativ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centési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t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icativ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milési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tiva y multiplicat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t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icativ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iones decimales periódicas y no periódica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tivas y multiplicativ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JO con las no periódica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-69840" y="181080"/>
          <a:ext cx="9285120" cy="6495840"/>
        </p:xfrm>
        <a:graphic>
          <a:graphicData uri="http://schemas.openxmlformats.org/drawingml/2006/table">
            <a:tbl>
              <a:tblPr/>
              <a:tblGrid>
                <a:gridCol w="812880"/>
                <a:gridCol w="2444760"/>
                <a:gridCol w="2313000"/>
                <a:gridCol w="1857240"/>
                <a:gridCol w="18572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º añ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º añ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º añ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º añ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tación fraccionaria y decim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lación de equivalencia entre exp.dec. y entre F y decimal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gt;1 y F&lt;1 como puntos de la rect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º mix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ón en la rect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p. Decimal, fraccionaria y mixt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ferentes representaciones gráfic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presiones decimales periódicas y no periódic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2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racciones decimal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gt;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lt;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=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tervalo entre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 igual y distinto denominado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medios, cuartos, octavos, tercios, sextos, novenos, quintos…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 igual y distinto numerado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nsida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usa el ord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décimos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analiza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centési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milési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presiones decimales periódicas y no periódic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décim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centési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centési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presiones decimales periódicas y no periódic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34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décim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i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ultiplica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centési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i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ultiplica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milési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itiva y multiplica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i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ultiplica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presiones decimales periódicas y no periódic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itivas y multiplicativ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OJO con las no periód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 tiene sentido este aspecto en Q. No existe el siguiente, por lo tanto es un conjunto dens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684360" y="476280"/>
          <a:ext cx="7991280" cy="6327720"/>
        </p:xfrm>
        <a:graphic>
          <a:graphicData uri="http://schemas.openxmlformats.org/drawingml/2006/table">
            <a:tbl>
              <a:tblPr/>
              <a:tblGrid>
                <a:gridCol w="1911240"/>
                <a:gridCol w="6080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º a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60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tación fraccionaria y decim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lación de equivalencia entre exp.dec. y entre F y decimal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gt;1 y F&lt;1 como puntos de la rect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racciones decimal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gt;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lt;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=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05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décimo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analiza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décim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 decimal: décim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iti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ultiplicati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684360" y="836640"/>
          <a:ext cx="7920000" cy="5364000"/>
        </p:xfrm>
        <a:graphic>
          <a:graphicData uri="http://schemas.openxmlformats.org/drawingml/2006/table">
            <a:tbl>
              <a:tblPr/>
              <a:tblGrid>
                <a:gridCol w="2158920"/>
                <a:gridCol w="576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º añ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º mix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sentación en la rect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o entre FF de igual y distinto denominador.</a:t>
                      </a: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edios, cuartos, octavos, tercios, sextos, novenos, quintos…)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cent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cent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95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centési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tivaMultiplicativ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684360" y="836640"/>
          <a:ext cx="7920000" cy="5392800"/>
        </p:xfrm>
        <a:graphic>
          <a:graphicData uri="http://schemas.openxmlformats.org/drawingml/2006/table">
            <a:tbl>
              <a:tblPr/>
              <a:tblGrid>
                <a:gridCol w="2158920"/>
                <a:gridCol w="576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º añ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. Decimal, fraccionaria y mixt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eren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sentaciones gráfica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55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 igual y distinto numerador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mil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mil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milési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tiva y multiplicat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t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icativ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684360" y="836640"/>
          <a:ext cx="7920000" cy="5708520"/>
        </p:xfrm>
        <a:graphic>
          <a:graphicData uri="http://schemas.openxmlformats.org/drawingml/2006/table">
            <a:tbl>
              <a:tblPr/>
              <a:tblGrid>
                <a:gridCol w="2158920"/>
                <a:gridCol w="576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p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º añ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iones decimales periódicas y no periódic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sidad (usa el orden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r Posi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iones decimales periódicas y no periódic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ular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iones decimales periódicas y no periódica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sición/ des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iones decimales periódicas y no periódica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tivas y multiplicativ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JO con las no periódica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acio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9640" y="1484280"/>
          <a:ext cx="8229600" cy="4754520"/>
        </p:xfrm>
        <a:graphic>
          <a:graphicData uri="http://schemas.openxmlformats.org/drawingml/2006/table">
            <a:tbl>
              <a:tblPr/>
              <a:tblGrid>
                <a:gridCol w="2374920"/>
                <a:gridCol w="2246400"/>
                <a:gridCol w="1805040"/>
                <a:gridCol w="1803240"/>
              </a:tblGrid>
              <a:tr h="63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º a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º a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º a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º a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11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tación fraccionaria y decim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lación de equivalencia entre exp.dec. y entre F y decimal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&gt;1 y F&lt;1 como puntos de la rect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º mix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presentación en la rect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p. Decimal, fraccionaria y mixt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ferentes representaciones gráfica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presiones decimales periódicas y no periódic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24000" y="1413000"/>
          <a:ext cx="8229600" cy="4743360"/>
        </p:xfrm>
        <a:graphic>
          <a:graphicData uri="http://schemas.openxmlformats.org/drawingml/2006/table">
            <a:tbl>
              <a:tblPr/>
              <a:tblGrid>
                <a:gridCol w="1954080"/>
                <a:gridCol w="2592360"/>
                <a:gridCol w="1944720"/>
                <a:gridCol w="1738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23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ciones decimal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&gt;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&lt;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=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o entre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 igual y distinto denominador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edios, cuartos, octavos, tercios, sextos, novenos, quintos…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 igual y distinto numerad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s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sa el orden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or Posi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9640" y="2133720"/>
          <a:ext cx="8229600" cy="3763800"/>
        </p:xfrm>
        <a:graphic>
          <a:graphicData uri="http://schemas.openxmlformats.org/drawingml/2006/table">
            <a:tbl>
              <a:tblPr/>
              <a:tblGrid>
                <a:gridCol w="1944720"/>
                <a:gridCol w="2016360"/>
                <a:gridCol w="1942920"/>
                <a:gridCol w="2325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2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décimos. (analizar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cent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mil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iones decimales periódicas y no periódica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r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drawingml/2006/table">
            <a:tbl>
              <a:tblPr/>
              <a:tblGrid>
                <a:gridCol w="1954080"/>
                <a:gridCol w="2016360"/>
                <a:gridCol w="2089080"/>
                <a:gridCol w="217008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º 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3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décimo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cent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decimal: centésim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iones decimales periódicas y no periódica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15:59:05Z</dcterms:created>
  <dc:creator>Carla</dc:creator>
  <dc:description/>
  <dc:language>en-US</dc:language>
  <cp:lastModifiedBy>Carla</cp:lastModifiedBy>
  <dcterms:modified xsi:type="dcterms:W3CDTF">2009-03-29T16:39:40Z</dcterms:modified>
  <cp:revision>6</cp:revision>
  <dc:subject/>
  <dc:title>Aspectos de Numeración Racional</dc:title>
</cp:coreProperties>
</file>