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B8CF2-9630-4DA0-BECB-DE2C0651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F1E52-B945-4AAA-B510-98AA6353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273F1-3FE3-4157-B977-F5C7886A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73423-89C0-4B25-997F-607520E8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15FC-0A0A-4743-B772-9130866E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4CC3-97DB-465D-91AF-952FF4E9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34D1-7D6C-49D4-B602-C0818F3A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07E1-DA01-4BC7-832F-3E054671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38C7-6A58-46DC-AC80-AE8EF6A4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5182-E871-44AE-A2AC-E191534F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1464-AE5A-425A-837E-D2EE7771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B3D32-1E5A-4A2A-A549-4EBCB1EC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2665-6725-4C34-8235-142CEFF4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D63C-003B-4B3B-9984-220859EF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F540-0CF7-4AF6-B27B-426DA3FF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438A-E1F7-4C53-830D-319B74AD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568A-E3EF-4266-8BD7-DF874136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3406C-7503-49FF-B57F-9C8F4707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7F74D-7E10-42DC-8457-6DE71708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CA7DA-FA25-40BD-A57C-6C24D281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5C9AD-D364-466E-B00F-8FD12FBD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DA3CD-8B93-4340-8C32-00893A58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8AEB5-3472-4518-B378-09C9BC39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E3B56-FC6C-4C3F-8375-725B063B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F9AC-E8A8-4B4E-9825-F68D0E019C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70E5-5E41-443C-B353-7A1B0A9599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spectos de Numeración Raciona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inculación con el nuevo program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ción/Descom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981080"/>
          <a:ext cx="8713800" cy="4583160"/>
        </p:xfrm>
        <a:graphic>
          <a:graphicData uri="http://schemas.openxmlformats.org/drawingml/2006/table">
            <a:tbl>
              <a:tblPr/>
              <a:tblGrid>
                <a:gridCol w="2241720"/>
                <a:gridCol w="2421000"/>
                <a:gridCol w="2251080"/>
                <a:gridCol w="180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0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décim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 y multiplica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s y multiplic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JO con las no periódic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-69840" y="181080"/>
          <a:ext cx="9285120" cy="6495840"/>
        </p:xfrm>
        <a:graphic>
          <a:graphicData uri="http://schemas.openxmlformats.org/drawingml/2006/table">
            <a:tbl>
              <a:tblPr/>
              <a:tblGrid>
                <a:gridCol w="812880"/>
                <a:gridCol w="2444760"/>
                <a:gridCol w="2313000"/>
                <a:gridCol w="1857240"/>
                <a:gridCol w="1857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º mix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ón en la rec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. Decimal, fraccionaria y mix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ferentes representaciones gráf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decimal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=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ervalo entre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 igual y distinto denominad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medios, cuartos, octavos, tercios, sextos, novenos, quintos…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 igual y distinto numerad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ns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usa el or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analiz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mil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3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mil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 y 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s y multiplicat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OJO con las no periód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tiene sentido este aspecto en Q. No existe el siguiente, por lo tanto es un conjunto dens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684360" y="476280"/>
          <a:ext cx="7991280" cy="6327720"/>
        </p:xfrm>
        <a:graphic>
          <a:graphicData uri="http://schemas.openxmlformats.org/drawingml/2006/table">
            <a:tbl>
              <a:tblPr/>
              <a:tblGrid>
                <a:gridCol w="1911240"/>
                <a:gridCol w="6080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6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decimal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l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=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analiza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84360" y="836640"/>
          <a:ext cx="7920000" cy="536400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mix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ción en la rec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o entre FF de igual y distinto denominador.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dios, cuartos, octavos, tercios, sextos, novenos, quintos…)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5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4360" y="836640"/>
          <a:ext cx="7920000" cy="539280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. Decimal, fraccionaria y mixt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ciones gráf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 igual y distinto numerador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 y multiplica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84360" y="836640"/>
          <a:ext cx="7920000" cy="570852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idad (usa el orden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s y multiplicati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JO con las no periódica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a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2374920"/>
                <a:gridCol w="2246400"/>
                <a:gridCol w="1805040"/>
                <a:gridCol w="1803240"/>
              </a:tblGrid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º mix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ón en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. Decimal, fraccionaria y mix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ferentes representaciones gráfic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4000" y="1413000"/>
          <a:ext cx="8229600" cy="4743360"/>
        </p:xfrm>
        <a:graphic>
          <a:graphicData uri="http://schemas.openxmlformats.org/drawingml/2006/table">
            <a:tbl>
              <a:tblPr/>
              <a:tblGrid>
                <a:gridCol w="1954080"/>
                <a:gridCol w="2592360"/>
                <a:gridCol w="1944720"/>
                <a:gridCol w="173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2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ciones decim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&g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&l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=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o entre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 igual y distinto denominado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dios, cuartos, octavos, tercios, sextos, novenos, quintos…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 igual y distinto num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a el orden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or Pos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2133720"/>
          <a:ext cx="8229600" cy="3763800"/>
        </p:xfrm>
        <a:graphic>
          <a:graphicData uri="http://schemas.openxmlformats.org/drawingml/2006/table">
            <a:tbl>
              <a:tblPr/>
              <a:tblGrid>
                <a:gridCol w="1944720"/>
                <a:gridCol w="2016360"/>
                <a:gridCol w="1942920"/>
                <a:gridCol w="2325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2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décimos. (analizar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954080"/>
                <a:gridCol w="2016360"/>
                <a:gridCol w="2089080"/>
                <a:gridCol w="217008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3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décimo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5:59:05Z</dcterms:created>
  <dc:creator>Carla</dc:creator>
  <dc:description/>
  <dc:language>en-US</dc:language>
  <cp:lastModifiedBy>Carla</cp:lastModifiedBy>
  <dcterms:modified xsi:type="dcterms:W3CDTF">2009-03-29T16:39:40Z</dcterms:modified>
  <cp:revision>6</cp:revision>
  <dc:subject/>
  <dc:title>Aspectos de Numeración Racional</dc:title>
</cp:coreProperties>
</file>