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AC09-F1CD-4A34-88AF-A1EA38E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74AB-F0BA-4F5A-8B83-378CFA64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6D53-1140-4459-8E69-61DF2FDD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3B7A-7AE1-4CC7-B7B8-FD2A201F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86E5-FA80-48CE-89DE-0E8156E2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FFD7-9E11-4F59-81C3-B2AD82CD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D777-0236-4E22-8E17-5A9BF40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058-10B5-405F-8AF1-09DE4102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D5B-A6B5-41E8-B8AA-C4BB0920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000-77A0-403A-BE5E-160F357E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9AD-6D91-4956-8FF0-5A0F358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D20E-ADA7-41E2-874A-AEE5D33B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7A0C-75F5-4537-919C-A9EBFB3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BC87-8DF5-49A2-B527-115A6AD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6A9-6874-4A43-BCBA-9304BDCD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A781-C139-4476-BD2A-E400F215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9CE-5096-48C3-9407-274C858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8C4F-33D4-4ACE-9FBC-4A588178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52A8-4FA0-496D-B843-86225D4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B4BD-8BC3-4320-A4DD-B01362F3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1140-A62D-4D43-8461-5A69EE7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D4D2-D3F6-4F05-BF08-DDE63C4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0F61-0B3A-481C-AFCD-3927FD0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A603-82BF-4E70-8024-5CCDAD6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1A49-8E96-425F-9C38-E15AA0A32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E80-16B0-4482-BD1A-7BDFBF706F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spectos de Numeración Racion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nculación con el nuevo progr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ción/Descom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81080"/>
          <a:ext cx="8713800" cy="4583160"/>
        </p:xfrm>
        <a:graphic>
          <a:graphicData uri="http://schemas.openxmlformats.org/drawingml/2006/table">
            <a:tbl>
              <a:tblPr/>
              <a:tblGrid>
                <a:gridCol w="2241720"/>
                <a:gridCol w="2421000"/>
                <a:gridCol w="225108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9840" y="181080"/>
          <a:ext cx="9285120" cy="6495840"/>
        </p:xfrm>
        <a:graphic>
          <a:graphicData uri="http://schemas.openxmlformats.org/drawingml/2006/table">
            <a:tbl>
              <a:tblPr/>
              <a:tblGrid>
                <a:gridCol w="812880"/>
                <a:gridCol w="2444760"/>
                <a:gridCol w="2313000"/>
                <a:gridCol w="1857240"/>
                <a:gridCol w="185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valo entre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denomin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dios, cuartos, octavos, tercios, sextos, novenos, quintos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numer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usa el or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 y 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s y multipli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JO con las no periód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iene sentido este aspecto en Q. No existe el siguiente, por lo tanto es un conjunto den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476280"/>
          <a:ext cx="7991280" cy="6327720"/>
        </p:xfrm>
        <a:graphic>
          <a:graphicData uri="http://schemas.openxmlformats.org/drawingml/2006/table">
            <a:tbl>
              <a:tblPr/>
              <a:tblGrid>
                <a:gridCol w="191124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836640"/>
          <a:ext cx="7920000" cy="53640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2374920"/>
                <a:gridCol w="2246400"/>
                <a:gridCol w="1805040"/>
                <a:gridCol w="180324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229600" cy="4743360"/>
        </p:xfrm>
        <a:graphic>
          <a:graphicData uri="http://schemas.openxmlformats.org/drawingml/2006/table">
            <a:tbl>
              <a:tblPr/>
              <a:tblGrid>
                <a:gridCol w="1954080"/>
                <a:gridCol w="2592360"/>
                <a:gridCol w="1944720"/>
                <a:gridCol w="17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ciones decim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=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denominad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 Pos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8229600" cy="376380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1942920"/>
                <a:gridCol w="23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(analizar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954080"/>
                <a:gridCol w="2016360"/>
                <a:gridCol w="2089080"/>
                <a:gridCol w="21700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3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59:05Z</dcterms:created>
  <dc:creator>Carla</dc:creator>
  <dc:description/>
  <dc:language>en-US</dc:language>
  <cp:lastModifiedBy>Carla</cp:lastModifiedBy>
  <dcterms:modified xsi:type="dcterms:W3CDTF">2009-03-29T16:39:40Z</dcterms:modified>
  <cp:revision>6</cp:revision>
  <dc:subject/>
  <dc:title>Aspectos de Numeración Racional</dc:title>
</cp:coreProperties>
</file>