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B31B-D2A4-4B37-9AAE-E8A430A8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0EBB-5264-427C-B4A1-4731E1D1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36E1-593B-46E9-A819-510805C5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066E-A1C5-4617-A6D2-51BAAAF1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D8C1-589D-41D8-929B-A7C01695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323F-285B-46A3-9C0F-A36B349A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E5C9-B619-46E6-BA9E-82C9FDA2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802C-146C-4CDE-9F3E-B5514FC8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CD08-F9F2-40A9-B600-63B03F9D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7812-CCA8-43C5-A24F-811C4788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5F16-8073-4321-8F60-15F4692F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DF63-17DB-407F-AA72-D1E0B44C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8BD8-2A63-41A5-BAC3-CCECB53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9DBF-3718-4581-91E6-0E43C77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75ED-91F9-4F88-BEBC-CA4D94B5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2173-702F-49DC-944A-87800055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08F4-9E45-42AC-9D28-220217CB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A887-2CBA-4194-8848-E641C6ED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2345-8DF2-4289-9E2C-6E7CBFD3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5FCE-C894-4936-89E4-140E167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7AEE-C36F-4B61-9D82-D8A1006E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CFFE-E045-4736-82C6-C28471C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1A66-5E91-4E0E-A81A-D9ECCAB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C6B5-0A12-4DDC-B340-47AB40AF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DC9-29B9-4BE6-B2BC-6327E1A82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AC0-DB93-4D40-BA31-D1CA90902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spectos de Numeración Racion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nculación con el nuevo progra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ción/Descom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81080"/>
          <a:ext cx="8713800" cy="4583160"/>
        </p:xfrm>
        <a:graphic>
          <a:graphicData uri="http://schemas.openxmlformats.org/drawingml/2006/table">
            <a:tbl>
              <a:tblPr/>
              <a:tblGrid>
                <a:gridCol w="2241720"/>
                <a:gridCol w="2421000"/>
                <a:gridCol w="2251080"/>
                <a:gridCol w="180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-69840" y="181080"/>
          <a:ext cx="9285120" cy="6495840"/>
        </p:xfrm>
        <a:graphic>
          <a:graphicData uri="http://schemas.openxmlformats.org/drawingml/2006/table">
            <a:tbl>
              <a:tblPr/>
              <a:tblGrid>
                <a:gridCol w="812880"/>
                <a:gridCol w="2444760"/>
                <a:gridCol w="2313000"/>
                <a:gridCol w="1857240"/>
                <a:gridCol w="185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valo entre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denomin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edios, cuartos, octavos, tercios, sextos, novenos, quintos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numer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usa el or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 y 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s y multiplica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OJO con las no periód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tiene sentido este aspecto en Q. No existe el siguiente, por lo tanto es un conjunto den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4360" y="476280"/>
          <a:ext cx="7991280" cy="6327720"/>
        </p:xfrm>
        <a:graphic>
          <a:graphicData uri="http://schemas.openxmlformats.org/drawingml/2006/table">
            <a:tbl>
              <a:tblPr/>
              <a:tblGrid>
                <a:gridCol w="191124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4360" y="836640"/>
          <a:ext cx="7920000" cy="53640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2374920"/>
                <a:gridCol w="2246400"/>
                <a:gridCol w="1805040"/>
                <a:gridCol w="180324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413000"/>
          <a:ext cx="8229600" cy="4743360"/>
        </p:xfrm>
        <a:graphic>
          <a:graphicData uri="http://schemas.openxmlformats.org/drawingml/2006/table">
            <a:tbl>
              <a:tblPr/>
              <a:tblGrid>
                <a:gridCol w="1954080"/>
                <a:gridCol w="2592360"/>
                <a:gridCol w="1944720"/>
                <a:gridCol w="17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ciones decim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=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denominad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 Pos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133720"/>
          <a:ext cx="8229600" cy="3763800"/>
        </p:xfrm>
        <a:graphic>
          <a:graphicData uri="http://schemas.openxmlformats.org/drawingml/2006/table">
            <a:tbl>
              <a:tblPr/>
              <a:tblGrid>
                <a:gridCol w="1944720"/>
                <a:gridCol w="2016360"/>
                <a:gridCol w="1942920"/>
                <a:gridCol w="2325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2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(analizar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954080"/>
                <a:gridCol w="2016360"/>
                <a:gridCol w="2089080"/>
                <a:gridCol w="21700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3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59:05Z</dcterms:created>
  <dc:creator>Carla</dc:creator>
  <dc:description/>
  <dc:language>en-US</dc:language>
  <cp:lastModifiedBy>Carla</cp:lastModifiedBy>
  <dcterms:modified xsi:type="dcterms:W3CDTF">2009-03-29T16:39:40Z</dcterms:modified>
  <cp:revision>6</cp:revision>
  <dc:subject/>
  <dc:title>Aspectos de Numeración Racional</dc:title>
</cp:coreProperties>
</file>