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3561-13E9-413D-95D2-362CDA37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9347-1E32-4E76-BF21-5A138495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136E-62C5-467F-9094-AF2A5470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B877-5C8C-4A37-AAB3-77ECA178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7931-8A59-4710-8A11-90FFF14E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1A4C-D806-4310-8C8E-7A91FAB6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A7A9-73E3-4334-A88E-5DA41B06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72F7-4E1A-4CDD-80B5-A234E2E1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BE91-AFCE-45A9-9A97-439C5DB6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C3F4-C62E-4478-BEB4-CF5E06EA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2C83-8E7A-48FA-ACCF-9A92C106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8797B-D398-431A-B768-1A0A0FCB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C8ED-6025-4E05-BE3F-3D307B30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5889-448E-4FA7-8234-70DE526D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849A-CC3B-4D22-AA99-E550AD46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F0BD-5B3E-400C-8497-3FB829C9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5F7E-822E-4720-91F5-14F58920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3697-AE87-4E3B-BDC0-4F377925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BBF27-8C35-48F8-97FA-28F929EB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8998-46B1-4FF3-8368-83144665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DB1B-A26C-458F-A368-EE7C82E3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AD2F-F3C0-4C9C-84E1-3C399058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1C6BB-9675-441A-9D8E-49065C15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F9AC5-3924-4A1C-875B-8A95663F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6C76-37EF-4806-B5CF-CC909C3034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8FF5-612D-4A84-8B72-6161DDEE0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spectos de Numeración Raciona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nculación con el nuevo progra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ción/Descom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981080"/>
          <a:ext cx="8713800" cy="4583160"/>
        </p:xfrm>
        <a:graphic>
          <a:graphicData uri="http://schemas.openxmlformats.org/drawingml/2006/table">
            <a:tbl>
              <a:tblPr/>
              <a:tblGrid>
                <a:gridCol w="2241720"/>
                <a:gridCol w="2421000"/>
                <a:gridCol w="2251080"/>
                <a:gridCol w="180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0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s y multiplic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JO con las no periódic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-69840" y="181080"/>
          <a:ext cx="9285120" cy="6495840"/>
        </p:xfrm>
        <a:graphic>
          <a:graphicData uri="http://schemas.openxmlformats.org/drawingml/2006/table">
            <a:tbl>
              <a:tblPr/>
              <a:tblGrid>
                <a:gridCol w="812880"/>
                <a:gridCol w="2444760"/>
                <a:gridCol w="2313000"/>
                <a:gridCol w="1857240"/>
                <a:gridCol w="1857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º mix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ón en la rec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. Decimal, fraccionaria y mix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ferentes representaciones gráf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ervalo entre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 igual y distinto denominad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medios, cuartos, octavos, tercios, sextos, novenos, quintos…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 igual y distinto numerad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ns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usa el or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mil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mil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 y 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s y multiplicat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OJO con las no periód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tiene sentido este aspecto en Q. No existe el siguiente, por lo tanto es un conjunto dens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84360" y="476280"/>
          <a:ext cx="7991280" cy="6327720"/>
        </p:xfrm>
        <a:graphic>
          <a:graphicData uri="http://schemas.openxmlformats.org/drawingml/2006/table">
            <a:tbl>
              <a:tblPr/>
              <a:tblGrid>
                <a:gridCol w="1911240"/>
                <a:gridCol w="6080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84360" y="836640"/>
          <a:ext cx="7920000" cy="53640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mix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ción en la rec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entre FF de igual y distinto denominador.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dios, cuartos, octavos, tercios, sextos, novenos, quintos…)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4360" y="836640"/>
          <a:ext cx="7920000" cy="53928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. Decimal, fraccionaria y mix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ciones gráf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numerador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84360" y="836640"/>
          <a:ext cx="7920000" cy="570852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dad 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s y multiplic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JO con las no periódica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2374920"/>
                <a:gridCol w="2246400"/>
                <a:gridCol w="1805040"/>
                <a:gridCol w="1803240"/>
              </a:tblGrid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º mix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ón en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. Decimal, fraccionaria y mix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ferentes representaciones gráfic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413000"/>
          <a:ext cx="8229600" cy="4743360"/>
        </p:xfrm>
        <a:graphic>
          <a:graphicData uri="http://schemas.openxmlformats.org/drawingml/2006/table">
            <a:tbl>
              <a:tblPr/>
              <a:tblGrid>
                <a:gridCol w="1954080"/>
                <a:gridCol w="2592360"/>
                <a:gridCol w="1944720"/>
                <a:gridCol w="17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2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ciones decim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=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entre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denominado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dios, cuartos, octavos, tercios, sextos, novenos, quintos…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num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or Pos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2133720"/>
          <a:ext cx="8229600" cy="3763800"/>
        </p:xfrm>
        <a:graphic>
          <a:graphicData uri="http://schemas.openxmlformats.org/drawingml/2006/table">
            <a:tbl>
              <a:tblPr/>
              <a:tblGrid>
                <a:gridCol w="1944720"/>
                <a:gridCol w="2016360"/>
                <a:gridCol w="1942920"/>
                <a:gridCol w="2325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2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 (analizar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954080"/>
                <a:gridCol w="2016360"/>
                <a:gridCol w="2089080"/>
                <a:gridCol w="217008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3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5:59:05Z</dcterms:created>
  <dc:creator>Carla</dc:creator>
  <dc:description/>
  <dc:language>en-US</dc:language>
  <cp:lastModifiedBy>Carla</cp:lastModifiedBy>
  <dcterms:modified xsi:type="dcterms:W3CDTF">2009-03-29T16:39:40Z</dcterms:modified>
  <cp:revision>6</cp:revision>
  <dc:subject/>
  <dc:title>Aspectos de Numeración Racional</dc:title>
</cp:coreProperties>
</file>