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A3F7B-D68C-4B89-909C-4E2FB5F2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CF5FC-E0FD-4FD9-8A1A-0BEBEBA2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B3101-C437-4091-B3E9-AA25D071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161E5-6108-4232-878F-6813EC240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08B9-2ED6-4D94-95C7-5CC5BE4A1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A9C3-D7F1-4EC8-84FC-BDA722FC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CC15-991A-4EBE-9A1E-AFAC56E9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B1D4-556C-4E99-BABD-83C6AF38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2A5E-6A67-4670-A24F-889A9734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100A-73FC-4B6D-A685-3B3EEDCE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21B4-4578-47F0-8F5E-5933CAFE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8C367-263E-4614-BF6F-C3A416A8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AE60-0255-4A5B-B21D-6498D42A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9BC5-5AAE-4F9F-9515-31CD0A61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967F-3594-4AD8-8BFD-53BB8E44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6321-EA52-44B1-B311-387C2A872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7D0B-4384-44CD-B14D-20121464E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0D4F8-0754-416E-A514-AAF3C6D6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0A0EF-715D-4653-A2A4-98E4C39D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F0863-DA72-43C4-8B37-5B7516EC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0046A-E4C7-4A30-9FC8-56DF1F7B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04D44-6967-46EA-B93F-5308C2F5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2697A-6A09-4878-A082-167092F2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BB276-CDB2-4BBC-9501-7E7886DC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6B9F-D4E4-4FF4-911B-2431A9A91E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B772-CA37-4E3A-A806-AD7195B841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spectos de Numeración Racional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inculación con el nuevo program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sición/Descompos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9280" y="1981080"/>
          <a:ext cx="8713800" cy="4583160"/>
        </p:xfrm>
        <a:graphic>
          <a:graphicData uri="http://schemas.openxmlformats.org/drawingml/2006/table">
            <a:tbl>
              <a:tblPr/>
              <a:tblGrid>
                <a:gridCol w="2241720"/>
                <a:gridCol w="2421000"/>
                <a:gridCol w="2251080"/>
                <a:gridCol w="180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0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décimo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icati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centési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icati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milési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 y multiplica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icati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ones decimales periódicas y no periódica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s y multiplicativ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JO con las no periódica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-69840" y="181080"/>
          <a:ext cx="9285120" cy="6495840"/>
        </p:xfrm>
        <a:graphic>
          <a:graphicData uri="http://schemas.openxmlformats.org/drawingml/2006/table">
            <a:tbl>
              <a:tblPr/>
              <a:tblGrid>
                <a:gridCol w="812880"/>
                <a:gridCol w="2444760"/>
                <a:gridCol w="2313000"/>
                <a:gridCol w="1857240"/>
                <a:gridCol w="18572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º a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º a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º a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º a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tación fraccionaria y decim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lación de equivalencia entre exp.dec. y entre F y decimal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gt;1 y F&lt;1 como puntos de la rect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º mix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ón en la rect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. Decimal, fraccionaria y mixt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ferentes representaciones gráfi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resiones decimales periódicas y no periódi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2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racciones decimal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gt;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lt;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=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tervalo entre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 igual y distinto denominado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medios, cuartos, octavos, tercios, sextos, novenos, quintos…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 igual y distinto numerado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nsida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usa el ord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analiza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centési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milési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resiones decimales periódicas y no periódi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centési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centési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resiones decimales periódicas y no periódi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34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i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ultiplica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centési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i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ultiplica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milési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itiva y multiplica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i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ultiplica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resiones decimales periódicas y no periódi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itivas y multiplicativ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OJO con las no periód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 tiene sentido este aspecto en Q. No existe el siguiente, por lo tanto es un conjunto dens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684360" y="476280"/>
          <a:ext cx="7991280" cy="6327720"/>
        </p:xfrm>
        <a:graphic>
          <a:graphicData uri="http://schemas.openxmlformats.org/drawingml/2006/table">
            <a:tbl>
              <a:tblPr/>
              <a:tblGrid>
                <a:gridCol w="1911240"/>
                <a:gridCol w="6080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º 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60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tación fraccionaria y decim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lación de equivalencia entre exp.dec. y entre F y decimal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gt;1 y F&lt;1 como puntos de la rect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racciones decimal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gt;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lt;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=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05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analiza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it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ultiplicat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684360" y="836640"/>
          <a:ext cx="7920000" cy="5364000"/>
        </p:xfrm>
        <a:graphic>
          <a:graphicData uri="http://schemas.openxmlformats.org/drawingml/2006/table">
            <a:tbl>
              <a:tblPr/>
              <a:tblGrid>
                <a:gridCol w="2158920"/>
                <a:gridCol w="576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º añ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 mix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ación en la rect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o entre FF de igual y distinto denominador.</a:t>
                      </a: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dios, cuartos, octavos, tercios, sextos, novenos, quintos…)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cent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cent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95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centési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Multiplicati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684360" y="836640"/>
          <a:ext cx="7920000" cy="5392800"/>
        </p:xfrm>
        <a:graphic>
          <a:graphicData uri="http://schemas.openxmlformats.org/drawingml/2006/table">
            <a:tbl>
              <a:tblPr/>
              <a:tblGrid>
                <a:gridCol w="2158920"/>
                <a:gridCol w="576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º añ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. Decimal, fraccionaria y mixt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eren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aciones gráfica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55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 igual y distinto numerador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mil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mil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milési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 y multiplica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icati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684360" y="836640"/>
          <a:ext cx="7920000" cy="5708520"/>
        </p:xfrm>
        <a:graphic>
          <a:graphicData uri="http://schemas.openxmlformats.org/drawingml/2006/table">
            <a:tbl>
              <a:tblPr/>
              <a:tblGrid>
                <a:gridCol w="2158920"/>
                <a:gridCol w="576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º añ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ones decimales periódicas y no periódic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sidad (usa el orden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ones decimales periódicas y no periódic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ones decimales periódicas y no periódica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ones decimales periódicas y no periódica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s y multiplicativ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JO con las no periódica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acio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9640" y="1484280"/>
          <a:ext cx="8229600" cy="4754520"/>
        </p:xfrm>
        <a:graphic>
          <a:graphicData uri="http://schemas.openxmlformats.org/drawingml/2006/table">
            <a:tbl>
              <a:tblPr/>
              <a:tblGrid>
                <a:gridCol w="2374920"/>
                <a:gridCol w="2246400"/>
                <a:gridCol w="1805040"/>
                <a:gridCol w="1803240"/>
              </a:tblGrid>
              <a:tr h="63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º 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º 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º 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º 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11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tación fraccionaria y decim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lación de equivalencia entre exp.dec. y entre F y decimal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gt;1 y F&lt;1 como puntos de la rect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º mix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ón en la rect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. Decimal, fraccionaria y mixt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ferentes representaciones gráfica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resiones decimales periódicas y no periódic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24000" y="1413000"/>
          <a:ext cx="8229600" cy="4743360"/>
        </p:xfrm>
        <a:graphic>
          <a:graphicData uri="http://schemas.openxmlformats.org/drawingml/2006/table">
            <a:tbl>
              <a:tblPr/>
              <a:tblGrid>
                <a:gridCol w="1954080"/>
                <a:gridCol w="2592360"/>
                <a:gridCol w="1944720"/>
                <a:gridCol w="1738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23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ciones decimal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&gt;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&lt;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=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o entre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 igual y distinto denominado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dios, cuartos, octavos, tercios, sextos, novenos, quintos…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 igual y distinto numerad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s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sa el orden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or Posi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9640" y="2133720"/>
          <a:ext cx="8229600" cy="3763800"/>
        </p:xfrm>
        <a:graphic>
          <a:graphicData uri="http://schemas.openxmlformats.org/drawingml/2006/table">
            <a:tbl>
              <a:tblPr/>
              <a:tblGrid>
                <a:gridCol w="1944720"/>
                <a:gridCol w="2016360"/>
                <a:gridCol w="1942920"/>
                <a:gridCol w="2325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2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décimos. (analizar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cent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mil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ones decimales periódicas y no periódica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r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drawingml/2006/table">
            <a:tbl>
              <a:tblPr/>
              <a:tblGrid>
                <a:gridCol w="1954080"/>
                <a:gridCol w="2016360"/>
                <a:gridCol w="2089080"/>
                <a:gridCol w="217008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3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décimo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cent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cent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ones decimales periódicas y no periódica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15:59:05Z</dcterms:created>
  <dc:creator>Carla</dc:creator>
  <dc:description/>
  <dc:language>en-US</dc:language>
  <cp:lastModifiedBy>Carla</cp:lastModifiedBy>
  <dcterms:modified xsi:type="dcterms:W3CDTF">2009-03-29T16:39:40Z</dcterms:modified>
  <cp:revision>6</cp:revision>
  <dc:subject/>
  <dc:title>Aspectos de Numeración Racional</dc:title>
</cp:coreProperties>
</file>